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png" ContentType="image/png"/>
  <Override PartName="/ppt/media/image17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220-646E-407C-BD4A-D220A8B8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DE8-61AF-4548-98D0-C431CE0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DE1-728F-4F86-BD9B-6AB84200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BA2-1F74-4598-814D-A1A1B4B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8D2-A7B6-4E26-AEDD-011EDD6C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816-8A8D-494B-8C3C-9140839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B3C-2C3C-4E2E-83D2-9E07F2D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C2C7-CD11-48C2-B393-E1E59C0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2140-C5DF-41A9-BA41-9A4E2B8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F17-F9B3-4F19-876F-CD45BED4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85E1-7ABB-4C5E-AE4A-E5AED1A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5EE-60F1-4DE3-A6B4-CF6E6AF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8D6-7C3A-4CD1-A897-3778B5E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C7E6-2579-4760-8E78-E2EEA7D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CC36-7AEE-4F32-B7A7-AE1C0601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5D94-1B39-43B9-B488-48251836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A960-3FFF-48A4-B484-184C8A99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BDC-8A3E-4917-8B0D-8729852A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AC8-323E-4A37-92F0-DF4BABE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4A8-42F4-4629-9F25-7156814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BFE-F270-4BF2-BF29-0EA36FD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11D-7B99-48DB-B99C-869296B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475-058F-4F55-A5AB-92C9687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3A7-F46B-4780-9051-7460F0F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ADE3-9DCA-40F0-8795-3EF05CDD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48D-6CF0-46FB-A2B6-C7E6CF0D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2se/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afsdev.sourceforge.net/sqabasic2000/RRAFSReference.htm" TargetMode="External"/><Relationship Id="rId2" Type="http://schemas.openxmlformats.org/officeDocument/2006/relationships/hyperlink" Target="http://safsdev.sourceforge.net/sqabasic2000/RRAFSReference.htm" TargetMode="External"/><Relationship Id="rId3" Type="http://schemas.openxmlformats.org/officeDocument/2006/relationships/hyperlink" Target="http://safsdev.sourceforge.net/sqabasic2000/RRAFSReference.htm" TargetMode="External"/><Relationship Id="rId4" Type="http://schemas.openxmlformats.org/officeDocument/2006/relationships/hyperlink" Target="http://safsdev.sourceforge.net/sqabasic2000/RRAFSReference.htm" TargetMode="External"/><Relationship Id="rId5" Type="http://schemas.openxmlformats.org/officeDocument/2006/relationships/hyperlink" Target="http://safsdev.sourceforge.net/sqabasic2000/RRAFSReference.htm" TargetMode="External"/><Relationship Id="rId6" Type="http://schemas.openxmlformats.org/officeDocument/2006/relationships/hyperlink" Target="http://safsdev.sourceforge.net/sqabasic2000/RRAFSReference.htm" TargetMode="External"/><Relationship Id="rId7" Type="http://schemas.openxmlformats.org/officeDocument/2006/relationships/hyperlink" Target="http://safsdev.sourceforge.net/sqabasic2000/RRAFSReference.htm" TargetMode="External"/><Relationship Id="rId8" Type="http://schemas.openxmlformats.org/officeDocument/2006/relationships/hyperlink" Target="http://safsdev.sourceforge.net/sqabasic2000/RRAFSReference.htm" TargetMode="External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safsdev.sourceforge.net/" TargetMode="External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kaner.com/" TargetMode="External"/><Relationship Id="rId2" Type="http://schemas.openxmlformats.org/officeDocument/2006/relationships/hyperlink" Target="http://www.kaner.com/" TargetMode="External"/><Relationship Id="rId3" Type="http://schemas.openxmlformats.org/officeDocument/2006/relationships/hyperlink" Target="http://www.kaner.com/" TargetMode="External"/><Relationship Id="rId4" Type="http://schemas.openxmlformats.org/officeDocument/2006/relationships/hyperlink" Target="http://www.sqa-test.com/w_paper1.html" TargetMode="External"/><Relationship Id="rId5" Type="http://schemas.openxmlformats.org/officeDocument/2006/relationships/hyperlink" Target="http://www.sqa-test.com/w_paper1.html" TargetMode="External"/><Relationship Id="rId6" Type="http://schemas.openxmlformats.org/officeDocument/2006/relationships/hyperlink" Target="http://www.sqa-test.com/w_paper1.html" TargetMode="External"/><Relationship Id="rId7" Type="http://schemas.openxmlformats.org/officeDocument/2006/relationships/hyperlink" Target="http://www.dundee.net/sqa/" TargetMode="External"/><Relationship Id="rId8" Type="http://schemas.openxmlformats.org/officeDocument/2006/relationships/hyperlink" Target="http://www.dundee.net/sqa/" TargetMode="External"/><Relationship Id="rId9" Type="http://schemas.openxmlformats.org/officeDocument/2006/relationships/hyperlink" Target="http://www.dundee.net/sqa/" TargetMode="External"/><Relationship Id="rId10" Type="http://schemas.openxmlformats.org/officeDocument/2006/relationships/hyperlink" Target="http://www.dundee.net/sqa/" TargetMode="External"/><Relationship Id="rId11" Type="http://schemas.openxmlformats.org/officeDocument/2006/relationships/hyperlink" Target="http://www.dundee.net/sqa/" TargetMode="External"/><Relationship Id="rId12" Type="http://schemas.openxmlformats.org/officeDocument/2006/relationships/hyperlink" Target="http://safsdev.sourceforge.net/Default.ht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word Driven Testing</a:t>
            </a: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Using WRSAF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Cr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How WRAFS Interfaces with your application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utoEngine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543800" cy="5413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stalling WRAF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up any prior installs and uninst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ll Java Virtual Machine (JVM) from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java.sun.com/j2s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he WRSAFS Inst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ll SAFS by running Setup.v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ipts are installed to C:\WRS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Tables are installed to C:\Data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s are installed to C:\S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F is installed to C:\ST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:\staf; c:\safs;c:\staf\bin are added to the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asspath additions have been made for STAF and SAFS jar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registry entries have been made and are pointed to the correct direc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d06670_" descr=""/>
          <p:cNvPicPr/>
          <p:nvPr/>
        </p:nvPicPr>
        <p:blipFill>
          <a:blip r:embed="rId2"/>
          <a:stretch/>
        </p:blipFill>
        <p:spPr>
          <a:xfrm>
            <a:off x="4952880" y="1936800"/>
            <a:ext cx="3733920" cy="3746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etting down to business with WRAFS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in script calls Suit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DD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scripts, calls Step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TD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where all your work happ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DD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s00580_" descr=""/>
          <p:cNvPicPr/>
          <p:nvPr/>
        </p:nvPicPr>
        <p:blipFill>
          <a:blip r:embed="rId1"/>
          <a:stretch/>
        </p:blipFill>
        <p:spPr>
          <a:xfrm>
            <a:off x="4952880" y="2236680"/>
            <a:ext cx="3733920" cy="3144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me File Structure Inform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ompass" descr=""/>
          <p:cNvPicPr/>
          <p:nvPr/>
        </p:nvPicPr>
        <p:blipFill>
          <a:blip r:embed="rId1"/>
          <a:stretch/>
        </p:blipFill>
        <p:spPr>
          <a:xfrm>
            <a:off x="5173560" y="17524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Setting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1295280"/>
            <a:ext cx="7467840" cy="5181840"/>
            <a:chOff x="1066680" y="1295280"/>
            <a:chExt cx="7467840" cy="5181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7467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1066680" y="1295280"/>
              <a:ext cx="7467840" cy="518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Settings Continued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4648320"/>
          </a:xfrm>
          <a:prstGeom prst="rect">
            <a:avLst/>
          </a:prstGeom>
          <a:noFill/>
          <a:ln w="9360">
            <a:solidFill>
              <a:srgbClr val="a1bd6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Note: the section name and the Key should not be chan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STAF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BLED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LOGMOD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oleLOg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ALog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xtLog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FLog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SAFSLOG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rFile = C:\safs\lib\safslogs.j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chine =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xtLog = 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Log = 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Directory = S:\test\others\datapool\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LogFacility = my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SAFSVAR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rFile = C:\safs\lib\safsvars.j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SAFSMAP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rFile = C:\safs\lib\safsmaps.j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DIFFE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_EXE=C:\Documents and Settings\jcrunk\Desktop\UnxUtils\usr\local\wbin\DIFF.EX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_OPTIONS="/t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_BINARY_OPTIONS="--binary -s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DIFFVIEWE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_EXE=C:\ExamDiff\ExamDiff.ex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_OPTIONS=" 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does a command look lik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Login; 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Username; SetTextValue; “jdo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Password; SetUnverifiedTestValue, “passwo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81560" y="3197160"/>
            <a:ext cx="441360" cy="668520"/>
            <a:chOff x="4381560" y="3197160"/>
            <a:chExt cx="441360" cy="668520"/>
          </a:xfrm>
        </p:grpSpPr>
        <p:grpSp>
          <p:nvGrpSpPr>
            <p:cNvPr id="136" name=""/>
            <p:cNvGrpSpPr/>
            <p:nvPr/>
          </p:nvGrpSpPr>
          <p:grpSpPr>
            <a:xfrm>
              <a:off x="4381560" y="3449520"/>
              <a:ext cx="431640" cy="108000"/>
              <a:chOff x="4381560" y="3449520"/>
              <a:chExt cx="431640" cy="108000"/>
            </a:xfrm>
          </p:grpSpPr>
          <p:sp>
            <p:nvSpPr>
              <p:cNvPr id="137" name=""/>
              <p:cNvSpPr/>
              <p:nvPr/>
            </p:nvSpPr>
            <p:spPr>
              <a:xfrm>
                <a:off x="4775040" y="3449520"/>
                <a:ext cx="38160" cy="108000"/>
              </a:xfrm>
              <a:custGeom>
                <a:avLst/>
                <a:gdLst/>
                <a:ahLst/>
                <a:rect l="l" t="t" r="r" b="b"/>
                <a:pathLst>
                  <a:path w="48" h="137">
                    <a:moveTo>
                      <a:pt x="1" y="9"/>
                    </a:moveTo>
                    <a:lnTo>
                      <a:pt x="20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7" y="12"/>
                    </a:lnTo>
                    <a:lnTo>
                      <a:pt x="48" y="20"/>
                    </a:lnTo>
                    <a:lnTo>
                      <a:pt x="47" y="30"/>
                    </a:lnTo>
                    <a:lnTo>
                      <a:pt x="46" y="38"/>
                    </a:lnTo>
                    <a:lnTo>
                      <a:pt x="40" y="46"/>
                    </a:lnTo>
                    <a:lnTo>
                      <a:pt x="37" y="53"/>
                    </a:lnTo>
                    <a:lnTo>
                      <a:pt x="31" y="59"/>
                    </a:lnTo>
                    <a:lnTo>
                      <a:pt x="29" y="68"/>
                    </a:lnTo>
                    <a:lnTo>
                      <a:pt x="29" y="75"/>
                    </a:lnTo>
                    <a:lnTo>
                      <a:pt x="29" y="87"/>
                    </a:lnTo>
                    <a:lnTo>
                      <a:pt x="29" y="98"/>
                    </a:lnTo>
                    <a:lnTo>
                      <a:pt x="30" y="107"/>
                    </a:lnTo>
                    <a:lnTo>
                      <a:pt x="29" y="114"/>
                    </a:lnTo>
                    <a:lnTo>
                      <a:pt x="25" y="123"/>
                    </a:lnTo>
                    <a:lnTo>
                      <a:pt x="20" y="128"/>
                    </a:lnTo>
                    <a:lnTo>
                      <a:pt x="12" y="133"/>
                    </a:lnTo>
                    <a:lnTo>
                      <a:pt x="0" y="137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81560" y="3449520"/>
                <a:ext cx="36360" cy="108000"/>
              </a:xfrm>
              <a:custGeom>
                <a:avLst/>
                <a:gdLst/>
                <a:ahLst/>
                <a:rect l="l" t="t" r="r" b="b"/>
                <a:pathLst>
                  <a:path w="47" h="137">
                    <a:moveTo>
                      <a:pt x="47" y="9"/>
                    </a:moveTo>
                    <a:lnTo>
                      <a:pt x="28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2" y="38"/>
                    </a:lnTo>
                    <a:lnTo>
                      <a:pt x="7" y="46"/>
                    </a:lnTo>
                    <a:lnTo>
                      <a:pt x="12" y="53"/>
                    </a:lnTo>
                    <a:lnTo>
                      <a:pt x="16" y="59"/>
                    </a:lnTo>
                    <a:lnTo>
                      <a:pt x="19" y="68"/>
                    </a:lnTo>
                    <a:lnTo>
                      <a:pt x="20" y="75"/>
                    </a:lnTo>
                    <a:lnTo>
                      <a:pt x="19" y="87"/>
                    </a:lnTo>
                    <a:lnTo>
                      <a:pt x="19" y="98"/>
                    </a:lnTo>
                    <a:lnTo>
                      <a:pt x="17" y="107"/>
                    </a:lnTo>
                    <a:lnTo>
                      <a:pt x="19" y="114"/>
                    </a:lnTo>
                    <a:lnTo>
                      <a:pt x="23" y="123"/>
                    </a:lnTo>
                    <a:lnTo>
                      <a:pt x="28" y="128"/>
                    </a:lnTo>
                    <a:lnTo>
                      <a:pt x="36" y="133"/>
                    </a:lnTo>
                    <a:lnTo>
                      <a:pt x="47" y="137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497480" y="3745080"/>
              <a:ext cx="207720" cy="120600"/>
            </a:xfrm>
            <a:prstGeom prst="rect">
              <a:avLst/>
            </a:prstGeom>
            <a:solidFill>
              <a:srgbClr val="ffc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1800" y="3247920"/>
              <a:ext cx="376200" cy="542880"/>
            </a:xfrm>
            <a:custGeom>
              <a:avLst/>
              <a:gdLst/>
              <a:ahLst/>
              <a:rect l="l" t="t" r="r" b="b"/>
              <a:pathLst>
                <a:path w="475" h="685">
                  <a:moveTo>
                    <a:pt x="47" y="110"/>
                  </a:moveTo>
                  <a:lnTo>
                    <a:pt x="31" y="140"/>
                  </a:lnTo>
                  <a:lnTo>
                    <a:pt x="20" y="170"/>
                  </a:lnTo>
                  <a:lnTo>
                    <a:pt x="12" y="200"/>
                  </a:lnTo>
                  <a:lnTo>
                    <a:pt x="7" y="237"/>
                  </a:lnTo>
                  <a:lnTo>
                    <a:pt x="3" y="278"/>
                  </a:lnTo>
                  <a:lnTo>
                    <a:pt x="1" y="315"/>
                  </a:lnTo>
                  <a:lnTo>
                    <a:pt x="0" y="352"/>
                  </a:lnTo>
                  <a:lnTo>
                    <a:pt x="0" y="398"/>
                  </a:lnTo>
                  <a:lnTo>
                    <a:pt x="3" y="435"/>
                  </a:lnTo>
                  <a:lnTo>
                    <a:pt x="8" y="472"/>
                  </a:lnTo>
                  <a:lnTo>
                    <a:pt x="15" y="499"/>
                  </a:lnTo>
                  <a:lnTo>
                    <a:pt x="26" y="531"/>
                  </a:lnTo>
                  <a:lnTo>
                    <a:pt x="42" y="557"/>
                  </a:lnTo>
                  <a:lnTo>
                    <a:pt x="56" y="578"/>
                  </a:lnTo>
                  <a:lnTo>
                    <a:pt x="78" y="604"/>
                  </a:lnTo>
                  <a:lnTo>
                    <a:pt x="102" y="626"/>
                  </a:lnTo>
                  <a:lnTo>
                    <a:pt x="129" y="648"/>
                  </a:lnTo>
                  <a:lnTo>
                    <a:pt x="157" y="662"/>
                  </a:lnTo>
                  <a:lnTo>
                    <a:pt x="184" y="673"/>
                  </a:lnTo>
                  <a:lnTo>
                    <a:pt x="197" y="678"/>
                  </a:lnTo>
                  <a:lnTo>
                    <a:pt x="214" y="683"/>
                  </a:lnTo>
                  <a:lnTo>
                    <a:pt x="236" y="685"/>
                  </a:lnTo>
                  <a:lnTo>
                    <a:pt x="249" y="683"/>
                  </a:lnTo>
                  <a:lnTo>
                    <a:pt x="269" y="681"/>
                  </a:lnTo>
                  <a:lnTo>
                    <a:pt x="291" y="674"/>
                  </a:lnTo>
                  <a:lnTo>
                    <a:pt x="309" y="668"/>
                  </a:lnTo>
                  <a:lnTo>
                    <a:pt x="329" y="658"/>
                  </a:lnTo>
                  <a:lnTo>
                    <a:pt x="348" y="645"/>
                  </a:lnTo>
                  <a:lnTo>
                    <a:pt x="365" y="632"/>
                  </a:lnTo>
                  <a:lnTo>
                    <a:pt x="382" y="617"/>
                  </a:lnTo>
                  <a:lnTo>
                    <a:pt x="397" y="601"/>
                  </a:lnTo>
                  <a:lnTo>
                    <a:pt x="408" y="586"/>
                  </a:lnTo>
                  <a:lnTo>
                    <a:pt x="425" y="567"/>
                  </a:lnTo>
                  <a:lnTo>
                    <a:pt x="436" y="552"/>
                  </a:lnTo>
                  <a:lnTo>
                    <a:pt x="446" y="535"/>
                  </a:lnTo>
                  <a:lnTo>
                    <a:pt x="451" y="522"/>
                  </a:lnTo>
                  <a:lnTo>
                    <a:pt x="457" y="509"/>
                  </a:lnTo>
                  <a:lnTo>
                    <a:pt x="462" y="491"/>
                  </a:lnTo>
                  <a:lnTo>
                    <a:pt x="467" y="470"/>
                  </a:lnTo>
                  <a:lnTo>
                    <a:pt x="471" y="442"/>
                  </a:lnTo>
                  <a:lnTo>
                    <a:pt x="474" y="418"/>
                  </a:lnTo>
                  <a:lnTo>
                    <a:pt x="475" y="393"/>
                  </a:lnTo>
                  <a:lnTo>
                    <a:pt x="475" y="367"/>
                  </a:lnTo>
                  <a:lnTo>
                    <a:pt x="474" y="331"/>
                  </a:lnTo>
                  <a:lnTo>
                    <a:pt x="472" y="305"/>
                  </a:lnTo>
                  <a:lnTo>
                    <a:pt x="470" y="279"/>
                  </a:lnTo>
                  <a:lnTo>
                    <a:pt x="468" y="250"/>
                  </a:lnTo>
                  <a:lnTo>
                    <a:pt x="467" y="228"/>
                  </a:lnTo>
                  <a:lnTo>
                    <a:pt x="463" y="203"/>
                  </a:lnTo>
                  <a:lnTo>
                    <a:pt x="459" y="184"/>
                  </a:lnTo>
                  <a:lnTo>
                    <a:pt x="453" y="164"/>
                  </a:lnTo>
                  <a:lnTo>
                    <a:pt x="446" y="147"/>
                  </a:lnTo>
                  <a:lnTo>
                    <a:pt x="440" y="134"/>
                  </a:lnTo>
                  <a:lnTo>
                    <a:pt x="433" y="123"/>
                  </a:lnTo>
                  <a:lnTo>
                    <a:pt x="421" y="102"/>
                  </a:lnTo>
                  <a:lnTo>
                    <a:pt x="412" y="90"/>
                  </a:lnTo>
                  <a:lnTo>
                    <a:pt x="402" y="78"/>
                  </a:lnTo>
                  <a:lnTo>
                    <a:pt x="389" y="65"/>
                  </a:lnTo>
                  <a:lnTo>
                    <a:pt x="377" y="55"/>
                  </a:lnTo>
                  <a:lnTo>
                    <a:pt x="364" y="45"/>
                  </a:lnTo>
                  <a:lnTo>
                    <a:pt x="347" y="35"/>
                  </a:lnTo>
                  <a:lnTo>
                    <a:pt x="330" y="24"/>
                  </a:lnTo>
                  <a:lnTo>
                    <a:pt x="309" y="15"/>
                  </a:lnTo>
                  <a:lnTo>
                    <a:pt x="287" y="9"/>
                  </a:lnTo>
                  <a:lnTo>
                    <a:pt x="262" y="4"/>
                  </a:lnTo>
                  <a:lnTo>
                    <a:pt x="238" y="0"/>
                  </a:lnTo>
                  <a:lnTo>
                    <a:pt x="202" y="4"/>
                  </a:lnTo>
                  <a:lnTo>
                    <a:pt x="172" y="13"/>
                  </a:lnTo>
                  <a:lnTo>
                    <a:pt x="141" y="26"/>
                  </a:lnTo>
                  <a:lnTo>
                    <a:pt x="115" y="41"/>
                  </a:lnTo>
                  <a:lnTo>
                    <a:pt x="90" y="59"/>
                  </a:lnTo>
                  <a:lnTo>
                    <a:pt x="67" y="83"/>
                  </a:lnTo>
                  <a:lnTo>
                    <a:pt x="47" y="110"/>
                  </a:lnTo>
                  <a:close/>
                </a:path>
              </a:pathLst>
            </a:custGeom>
            <a:solidFill>
              <a:srgbClr val="ffc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22680" y="3659040"/>
              <a:ext cx="154080" cy="32040"/>
            </a:xfrm>
            <a:custGeom>
              <a:avLst/>
              <a:gdLst/>
              <a:ahLst/>
              <a:rect l="l" t="t" r="r" b="b"/>
              <a:pathLst>
                <a:path w="193" h="41">
                  <a:moveTo>
                    <a:pt x="0" y="28"/>
                  </a:moveTo>
                  <a:lnTo>
                    <a:pt x="7" y="23"/>
                  </a:lnTo>
                  <a:lnTo>
                    <a:pt x="16" y="15"/>
                  </a:lnTo>
                  <a:lnTo>
                    <a:pt x="33" y="8"/>
                  </a:lnTo>
                  <a:lnTo>
                    <a:pt x="52" y="3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45" y="4"/>
                  </a:lnTo>
                  <a:lnTo>
                    <a:pt x="158" y="8"/>
                  </a:lnTo>
                  <a:lnTo>
                    <a:pt x="174" y="13"/>
                  </a:lnTo>
                  <a:lnTo>
                    <a:pt x="181" y="18"/>
                  </a:lnTo>
                  <a:lnTo>
                    <a:pt x="188" y="23"/>
                  </a:lnTo>
                  <a:lnTo>
                    <a:pt x="193" y="31"/>
                  </a:lnTo>
                  <a:lnTo>
                    <a:pt x="192" y="33"/>
                  </a:lnTo>
                  <a:lnTo>
                    <a:pt x="174" y="38"/>
                  </a:lnTo>
                  <a:lnTo>
                    <a:pt x="142" y="41"/>
                  </a:lnTo>
                  <a:lnTo>
                    <a:pt x="112" y="41"/>
                  </a:lnTo>
                  <a:lnTo>
                    <a:pt x="81" y="41"/>
                  </a:lnTo>
                  <a:lnTo>
                    <a:pt x="39" y="38"/>
                  </a:lnTo>
                  <a:lnTo>
                    <a:pt x="12" y="36"/>
                  </a:lnTo>
                  <a:lnTo>
                    <a:pt x="4" y="3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87680" y="3197160"/>
              <a:ext cx="435240" cy="292320"/>
            </a:xfrm>
            <a:custGeom>
              <a:avLst/>
              <a:gdLst/>
              <a:ahLst/>
              <a:rect l="l" t="t" r="r" b="b"/>
              <a:pathLst>
                <a:path w="549" h="369">
                  <a:moveTo>
                    <a:pt x="33" y="369"/>
                  </a:moveTo>
                  <a:lnTo>
                    <a:pt x="28" y="362"/>
                  </a:lnTo>
                  <a:lnTo>
                    <a:pt x="17" y="351"/>
                  </a:lnTo>
                  <a:lnTo>
                    <a:pt x="28" y="346"/>
                  </a:lnTo>
                  <a:lnTo>
                    <a:pt x="21" y="335"/>
                  </a:lnTo>
                  <a:lnTo>
                    <a:pt x="15" y="324"/>
                  </a:lnTo>
                  <a:lnTo>
                    <a:pt x="9" y="316"/>
                  </a:lnTo>
                  <a:lnTo>
                    <a:pt x="24" y="316"/>
                  </a:lnTo>
                  <a:lnTo>
                    <a:pt x="20" y="305"/>
                  </a:lnTo>
                  <a:lnTo>
                    <a:pt x="12" y="292"/>
                  </a:lnTo>
                  <a:lnTo>
                    <a:pt x="0" y="280"/>
                  </a:lnTo>
                  <a:lnTo>
                    <a:pt x="16" y="279"/>
                  </a:lnTo>
                  <a:lnTo>
                    <a:pt x="12" y="269"/>
                  </a:lnTo>
                  <a:lnTo>
                    <a:pt x="5" y="256"/>
                  </a:lnTo>
                  <a:lnTo>
                    <a:pt x="15" y="259"/>
                  </a:lnTo>
                  <a:lnTo>
                    <a:pt x="22" y="261"/>
                  </a:lnTo>
                  <a:lnTo>
                    <a:pt x="20" y="253"/>
                  </a:lnTo>
                  <a:lnTo>
                    <a:pt x="13" y="244"/>
                  </a:lnTo>
                  <a:lnTo>
                    <a:pt x="21" y="244"/>
                  </a:lnTo>
                  <a:lnTo>
                    <a:pt x="17" y="230"/>
                  </a:lnTo>
                  <a:lnTo>
                    <a:pt x="25" y="232"/>
                  </a:lnTo>
                  <a:lnTo>
                    <a:pt x="25" y="221"/>
                  </a:lnTo>
                  <a:lnTo>
                    <a:pt x="22" y="212"/>
                  </a:lnTo>
                  <a:lnTo>
                    <a:pt x="16" y="197"/>
                  </a:lnTo>
                  <a:lnTo>
                    <a:pt x="25" y="200"/>
                  </a:lnTo>
                  <a:lnTo>
                    <a:pt x="34" y="202"/>
                  </a:lnTo>
                  <a:lnTo>
                    <a:pt x="28" y="192"/>
                  </a:lnTo>
                  <a:lnTo>
                    <a:pt x="41" y="193"/>
                  </a:lnTo>
                  <a:lnTo>
                    <a:pt x="51" y="195"/>
                  </a:lnTo>
                  <a:lnTo>
                    <a:pt x="42" y="182"/>
                  </a:lnTo>
                  <a:lnTo>
                    <a:pt x="37" y="174"/>
                  </a:lnTo>
                  <a:lnTo>
                    <a:pt x="29" y="164"/>
                  </a:lnTo>
                  <a:lnTo>
                    <a:pt x="39" y="163"/>
                  </a:lnTo>
                  <a:lnTo>
                    <a:pt x="50" y="163"/>
                  </a:lnTo>
                  <a:lnTo>
                    <a:pt x="59" y="161"/>
                  </a:lnTo>
                  <a:lnTo>
                    <a:pt x="51" y="154"/>
                  </a:lnTo>
                  <a:lnTo>
                    <a:pt x="42" y="146"/>
                  </a:lnTo>
                  <a:lnTo>
                    <a:pt x="52" y="142"/>
                  </a:lnTo>
                  <a:lnTo>
                    <a:pt x="47" y="129"/>
                  </a:lnTo>
                  <a:lnTo>
                    <a:pt x="42" y="120"/>
                  </a:lnTo>
                  <a:lnTo>
                    <a:pt x="38" y="113"/>
                  </a:lnTo>
                  <a:lnTo>
                    <a:pt x="50" y="114"/>
                  </a:lnTo>
                  <a:lnTo>
                    <a:pt x="60" y="116"/>
                  </a:lnTo>
                  <a:lnTo>
                    <a:pt x="63" y="104"/>
                  </a:lnTo>
                  <a:lnTo>
                    <a:pt x="61" y="90"/>
                  </a:lnTo>
                  <a:lnTo>
                    <a:pt x="59" y="77"/>
                  </a:lnTo>
                  <a:lnTo>
                    <a:pt x="50" y="61"/>
                  </a:lnTo>
                  <a:lnTo>
                    <a:pt x="68" y="70"/>
                  </a:lnTo>
                  <a:lnTo>
                    <a:pt x="76" y="74"/>
                  </a:lnTo>
                  <a:lnTo>
                    <a:pt x="85" y="81"/>
                  </a:lnTo>
                  <a:lnTo>
                    <a:pt x="95" y="81"/>
                  </a:lnTo>
                  <a:lnTo>
                    <a:pt x="95" y="70"/>
                  </a:lnTo>
                  <a:lnTo>
                    <a:pt x="98" y="60"/>
                  </a:lnTo>
                  <a:lnTo>
                    <a:pt x="105" y="47"/>
                  </a:lnTo>
                  <a:lnTo>
                    <a:pt x="110" y="56"/>
                  </a:lnTo>
                  <a:lnTo>
                    <a:pt x="114" y="61"/>
                  </a:lnTo>
                  <a:lnTo>
                    <a:pt x="121" y="67"/>
                  </a:lnTo>
                  <a:lnTo>
                    <a:pt x="127" y="58"/>
                  </a:lnTo>
                  <a:lnTo>
                    <a:pt x="133" y="49"/>
                  </a:lnTo>
                  <a:lnTo>
                    <a:pt x="145" y="40"/>
                  </a:lnTo>
                  <a:lnTo>
                    <a:pt x="155" y="29"/>
                  </a:lnTo>
                  <a:lnTo>
                    <a:pt x="168" y="22"/>
                  </a:lnTo>
                  <a:lnTo>
                    <a:pt x="184" y="18"/>
                  </a:lnTo>
                  <a:lnTo>
                    <a:pt x="205" y="14"/>
                  </a:lnTo>
                  <a:lnTo>
                    <a:pt x="235" y="6"/>
                  </a:lnTo>
                  <a:lnTo>
                    <a:pt x="255" y="3"/>
                  </a:lnTo>
                  <a:lnTo>
                    <a:pt x="271" y="1"/>
                  </a:lnTo>
                  <a:lnTo>
                    <a:pt x="285" y="0"/>
                  </a:lnTo>
                  <a:lnTo>
                    <a:pt x="304" y="0"/>
                  </a:lnTo>
                  <a:lnTo>
                    <a:pt x="341" y="1"/>
                  </a:lnTo>
                  <a:lnTo>
                    <a:pt x="328" y="6"/>
                  </a:lnTo>
                  <a:lnTo>
                    <a:pt x="320" y="14"/>
                  </a:lnTo>
                  <a:lnTo>
                    <a:pt x="317" y="18"/>
                  </a:lnTo>
                  <a:lnTo>
                    <a:pt x="330" y="22"/>
                  </a:lnTo>
                  <a:lnTo>
                    <a:pt x="346" y="23"/>
                  </a:lnTo>
                  <a:lnTo>
                    <a:pt x="361" y="22"/>
                  </a:lnTo>
                  <a:lnTo>
                    <a:pt x="376" y="21"/>
                  </a:lnTo>
                  <a:lnTo>
                    <a:pt x="388" y="18"/>
                  </a:lnTo>
                  <a:lnTo>
                    <a:pt x="410" y="19"/>
                  </a:lnTo>
                  <a:lnTo>
                    <a:pt x="395" y="24"/>
                  </a:lnTo>
                  <a:lnTo>
                    <a:pt x="384" y="33"/>
                  </a:lnTo>
                  <a:lnTo>
                    <a:pt x="395" y="35"/>
                  </a:lnTo>
                  <a:lnTo>
                    <a:pt x="406" y="33"/>
                  </a:lnTo>
                  <a:lnTo>
                    <a:pt x="421" y="35"/>
                  </a:lnTo>
                  <a:lnTo>
                    <a:pt x="446" y="42"/>
                  </a:lnTo>
                  <a:lnTo>
                    <a:pt x="432" y="45"/>
                  </a:lnTo>
                  <a:lnTo>
                    <a:pt x="419" y="47"/>
                  </a:lnTo>
                  <a:lnTo>
                    <a:pt x="411" y="51"/>
                  </a:lnTo>
                  <a:lnTo>
                    <a:pt x="428" y="54"/>
                  </a:lnTo>
                  <a:lnTo>
                    <a:pt x="441" y="56"/>
                  </a:lnTo>
                  <a:lnTo>
                    <a:pt x="450" y="58"/>
                  </a:lnTo>
                  <a:lnTo>
                    <a:pt x="463" y="63"/>
                  </a:lnTo>
                  <a:lnTo>
                    <a:pt x="479" y="70"/>
                  </a:lnTo>
                  <a:lnTo>
                    <a:pt x="502" y="78"/>
                  </a:lnTo>
                  <a:lnTo>
                    <a:pt x="488" y="82"/>
                  </a:lnTo>
                  <a:lnTo>
                    <a:pt x="478" y="87"/>
                  </a:lnTo>
                  <a:lnTo>
                    <a:pt x="470" y="92"/>
                  </a:lnTo>
                  <a:lnTo>
                    <a:pt x="468" y="99"/>
                  </a:lnTo>
                  <a:lnTo>
                    <a:pt x="479" y="100"/>
                  </a:lnTo>
                  <a:lnTo>
                    <a:pt x="489" y="104"/>
                  </a:lnTo>
                  <a:lnTo>
                    <a:pt x="500" y="109"/>
                  </a:lnTo>
                  <a:lnTo>
                    <a:pt x="515" y="113"/>
                  </a:lnTo>
                  <a:lnTo>
                    <a:pt x="527" y="111"/>
                  </a:lnTo>
                  <a:lnTo>
                    <a:pt x="518" y="122"/>
                  </a:lnTo>
                  <a:lnTo>
                    <a:pt x="515" y="137"/>
                  </a:lnTo>
                  <a:lnTo>
                    <a:pt x="521" y="150"/>
                  </a:lnTo>
                  <a:lnTo>
                    <a:pt x="525" y="161"/>
                  </a:lnTo>
                  <a:lnTo>
                    <a:pt x="527" y="172"/>
                  </a:lnTo>
                  <a:lnTo>
                    <a:pt x="518" y="191"/>
                  </a:lnTo>
                  <a:lnTo>
                    <a:pt x="549" y="189"/>
                  </a:lnTo>
                  <a:lnTo>
                    <a:pt x="522" y="207"/>
                  </a:lnTo>
                  <a:lnTo>
                    <a:pt x="513" y="219"/>
                  </a:lnTo>
                  <a:lnTo>
                    <a:pt x="509" y="239"/>
                  </a:lnTo>
                  <a:lnTo>
                    <a:pt x="522" y="248"/>
                  </a:lnTo>
                  <a:lnTo>
                    <a:pt x="517" y="261"/>
                  </a:lnTo>
                  <a:lnTo>
                    <a:pt x="513" y="278"/>
                  </a:lnTo>
                  <a:lnTo>
                    <a:pt x="522" y="292"/>
                  </a:lnTo>
                  <a:lnTo>
                    <a:pt x="509" y="312"/>
                  </a:lnTo>
                  <a:lnTo>
                    <a:pt x="504" y="325"/>
                  </a:lnTo>
                  <a:lnTo>
                    <a:pt x="497" y="366"/>
                  </a:lnTo>
                  <a:lnTo>
                    <a:pt x="487" y="270"/>
                  </a:lnTo>
                  <a:lnTo>
                    <a:pt x="475" y="234"/>
                  </a:lnTo>
                  <a:lnTo>
                    <a:pt x="450" y="180"/>
                  </a:lnTo>
                  <a:lnTo>
                    <a:pt x="429" y="163"/>
                  </a:lnTo>
                  <a:lnTo>
                    <a:pt x="397" y="154"/>
                  </a:lnTo>
                  <a:lnTo>
                    <a:pt x="361" y="151"/>
                  </a:lnTo>
                  <a:lnTo>
                    <a:pt x="324" y="142"/>
                  </a:lnTo>
                  <a:lnTo>
                    <a:pt x="291" y="134"/>
                  </a:lnTo>
                  <a:lnTo>
                    <a:pt x="253" y="125"/>
                  </a:lnTo>
                  <a:lnTo>
                    <a:pt x="218" y="123"/>
                  </a:lnTo>
                  <a:lnTo>
                    <a:pt x="153" y="120"/>
                  </a:lnTo>
                  <a:lnTo>
                    <a:pt x="145" y="128"/>
                  </a:lnTo>
                  <a:lnTo>
                    <a:pt x="135" y="136"/>
                  </a:lnTo>
                  <a:lnTo>
                    <a:pt x="124" y="142"/>
                  </a:lnTo>
                  <a:lnTo>
                    <a:pt x="116" y="142"/>
                  </a:lnTo>
                  <a:lnTo>
                    <a:pt x="107" y="146"/>
                  </a:lnTo>
                  <a:lnTo>
                    <a:pt x="98" y="163"/>
                  </a:lnTo>
                  <a:lnTo>
                    <a:pt x="88" y="179"/>
                  </a:lnTo>
                  <a:lnTo>
                    <a:pt x="85" y="202"/>
                  </a:lnTo>
                  <a:lnTo>
                    <a:pt x="77" y="218"/>
                  </a:lnTo>
                  <a:lnTo>
                    <a:pt x="69" y="236"/>
                  </a:lnTo>
                  <a:lnTo>
                    <a:pt x="60" y="248"/>
                  </a:lnTo>
                  <a:lnTo>
                    <a:pt x="52" y="262"/>
                  </a:lnTo>
                  <a:lnTo>
                    <a:pt x="47" y="279"/>
                  </a:lnTo>
                  <a:lnTo>
                    <a:pt x="43" y="298"/>
                  </a:lnTo>
                  <a:lnTo>
                    <a:pt x="33" y="369"/>
                  </a:lnTo>
                  <a:close/>
                </a:path>
              </a:pathLst>
            </a:custGeom>
            <a:solidFill>
              <a:srgbClr val="201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500720" y="3483000"/>
              <a:ext cx="185760" cy="31680"/>
              <a:chOff x="4500720" y="3483000"/>
              <a:chExt cx="185760" cy="316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500720" y="3483000"/>
                <a:ext cx="31680" cy="31680"/>
                <a:chOff x="4500720" y="3483000"/>
                <a:chExt cx="31680" cy="316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500720" y="3483000"/>
                  <a:ext cx="31680" cy="31680"/>
                </a:xfrm>
                <a:prstGeom prst="ellipse">
                  <a:avLst/>
                </a:prstGeom>
                <a:solidFill>
                  <a:srgbClr val="4040ff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10080" y="3487680"/>
                  <a:ext cx="14400" cy="1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54440" y="3483000"/>
                <a:ext cx="32040" cy="31680"/>
                <a:chOff x="4654440" y="3483000"/>
                <a:chExt cx="32040" cy="316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654440" y="3483000"/>
                  <a:ext cx="32040" cy="31680"/>
                </a:xfrm>
                <a:prstGeom prst="ellipse">
                  <a:avLst/>
                </a:prstGeom>
                <a:solidFill>
                  <a:srgbClr val="4040ff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2360" y="3487680"/>
                  <a:ext cx="14400" cy="17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554360" y="3540600"/>
              <a:ext cx="8568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468680" y="3386160"/>
              <a:ext cx="263520" cy="71280"/>
              <a:chOff x="4468680" y="3386160"/>
              <a:chExt cx="263520" cy="71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468680" y="3386160"/>
                <a:ext cx="81000" cy="6660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88" y="6"/>
                    </a:moveTo>
                    <a:lnTo>
                      <a:pt x="77" y="10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2" y="26"/>
                    </a:lnTo>
                    <a:lnTo>
                      <a:pt x="46" y="36"/>
                    </a:lnTo>
                    <a:lnTo>
                      <a:pt x="39" y="47"/>
                    </a:lnTo>
                    <a:lnTo>
                      <a:pt x="34" y="56"/>
                    </a:lnTo>
                    <a:lnTo>
                      <a:pt x="29" y="63"/>
                    </a:lnTo>
                    <a:lnTo>
                      <a:pt x="22" y="70"/>
                    </a:lnTo>
                    <a:lnTo>
                      <a:pt x="0" y="85"/>
                    </a:lnTo>
                    <a:lnTo>
                      <a:pt x="15" y="81"/>
                    </a:lnTo>
                    <a:lnTo>
                      <a:pt x="24" y="78"/>
                    </a:lnTo>
                    <a:lnTo>
                      <a:pt x="33" y="73"/>
                    </a:lnTo>
                    <a:lnTo>
                      <a:pt x="43" y="64"/>
                    </a:lnTo>
                    <a:lnTo>
                      <a:pt x="48" y="58"/>
                    </a:lnTo>
                    <a:lnTo>
                      <a:pt x="56" y="47"/>
                    </a:lnTo>
                    <a:lnTo>
                      <a:pt x="60" y="38"/>
                    </a:lnTo>
                    <a:lnTo>
                      <a:pt x="65" y="31"/>
                    </a:lnTo>
                    <a:lnTo>
                      <a:pt x="72" y="22"/>
                    </a:lnTo>
                    <a:lnTo>
                      <a:pt x="78" y="18"/>
                    </a:lnTo>
                    <a:lnTo>
                      <a:pt x="89" y="13"/>
                    </a:lnTo>
                    <a:lnTo>
                      <a:pt x="97" y="9"/>
                    </a:lnTo>
                    <a:lnTo>
                      <a:pt x="102" y="0"/>
                    </a:lnTo>
                    <a:lnTo>
                      <a:pt x="88" y="6"/>
                    </a:lnTo>
                    <a:close/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53000" y="339084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14" y="7"/>
                    </a:moveTo>
                    <a:lnTo>
                      <a:pt x="26" y="11"/>
                    </a:lnTo>
                    <a:lnTo>
                      <a:pt x="35" y="15"/>
                    </a:lnTo>
                    <a:lnTo>
                      <a:pt x="43" y="20"/>
                    </a:lnTo>
                    <a:lnTo>
                      <a:pt x="50" y="26"/>
                    </a:lnTo>
                    <a:lnTo>
                      <a:pt x="56" y="36"/>
                    </a:lnTo>
                    <a:lnTo>
                      <a:pt x="63" y="48"/>
                    </a:lnTo>
                    <a:lnTo>
                      <a:pt x="68" y="57"/>
                    </a:lnTo>
                    <a:lnTo>
                      <a:pt x="73" y="63"/>
                    </a:lnTo>
                    <a:lnTo>
                      <a:pt x="80" y="71"/>
                    </a:lnTo>
                    <a:lnTo>
                      <a:pt x="102" y="85"/>
                    </a:lnTo>
                    <a:lnTo>
                      <a:pt x="87" y="81"/>
                    </a:lnTo>
                    <a:lnTo>
                      <a:pt x="78" y="77"/>
                    </a:lnTo>
                    <a:lnTo>
                      <a:pt x="69" y="72"/>
                    </a:lnTo>
                    <a:lnTo>
                      <a:pt x="59" y="64"/>
                    </a:lnTo>
                    <a:lnTo>
                      <a:pt x="54" y="58"/>
                    </a:lnTo>
                    <a:lnTo>
                      <a:pt x="46" y="47"/>
                    </a:lnTo>
                    <a:lnTo>
                      <a:pt x="42" y="39"/>
                    </a:lnTo>
                    <a:lnTo>
                      <a:pt x="37" y="31"/>
                    </a:lnTo>
                    <a:lnTo>
                      <a:pt x="30" y="22"/>
                    </a:lnTo>
                    <a:lnTo>
                      <a:pt x="24" y="18"/>
                    </a:lnTo>
                    <a:lnTo>
                      <a:pt x="13" y="13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11800" y="3446640"/>
              <a:ext cx="384120" cy="107640"/>
              <a:chOff x="4411800" y="3446640"/>
              <a:chExt cx="384120" cy="1076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462560" y="3446640"/>
                <a:ext cx="269640" cy="107640"/>
                <a:chOff x="4462560" y="3446640"/>
                <a:chExt cx="269640" cy="107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622760" y="3446640"/>
                  <a:ext cx="109440" cy="107640"/>
                </a:xfrm>
                <a:prstGeom prst="ellipse">
                  <a:avLst/>
                </a:prstGeom>
                <a:noFill/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62560" y="3446640"/>
                  <a:ext cx="109440" cy="107640"/>
                </a:xfrm>
                <a:prstGeom prst="ellipse">
                  <a:avLst/>
                </a:prstGeom>
                <a:noFill/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565880" y="3475080"/>
                <a:ext cx="6192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49" y="5064"/>
                    </a:moveTo>
                    <a:arcTo wR="10800" hR="10800" stAng="-8875279" swAng="6242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49" y="5064"/>
                    </a:moveTo>
                    <a:arcTo wR="10800" hR="10800" stAng="-8875279" swAng="6242677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11800" y="3473280"/>
                <a:ext cx="61920" cy="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4730760" y="3459240"/>
                <a:ext cx="65160" cy="22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589640" y="3718080"/>
              <a:ext cx="20520" cy="28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0" y="3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7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65640" y="3757680"/>
            <a:ext cx="2474640" cy="2639880"/>
            <a:chOff x="3365640" y="3757680"/>
            <a:chExt cx="2474640" cy="2639880"/>
          </a:xfrm>
        </p:grpSpPr>
        <p:sp>
          <p:nvSpPr>
            <p:cNvPr id="163" name=""/>
            <p:cNvSpPr/>
            <p:nvPr/>
          </p:nvSpPr>
          <p:spPr>
            <a:xfrm>
              <a:off x="4284720" y="3773520"/>
              <a:ext cx="647640" cy="1020600"/>
            </a:xfrm>
            <a:custGeom>
              <a:avLst/>
              <a:gdLst/>
              <a:ahLst/>
              <a:rect l="l" t="t" r="r" b="b"/>
              <a:pathLst>
                <a:path w="817" h="1286">
                  <a:moveTo>
                    <a:pt x="243" y="19"/>
                  </a:moveTo>
                  <a:lnTo>
                    <a:pt x="164" y="11"/>
                  </a:lnTo>
                  <a:lnTo>
                    <a:pt x="110" y="4"/>
                  </a:lnTo>
                  <a:lnTo>
                    <a:pt x="78" y="0"/>
                  </a:lnTo>
                  <a:lnTo>
                    <a:pt x="78" y="200"/>
                  </a:lnTo>
                  <a:lnTo>
                    <a:pt x="67" y="376"/>
                  </a:lnTo>
                  <a:lnTo>
                    <a:pt x="59" y="418"/>
                  </a:lnTo>
                  <a:lnTo>
                    <a:pt x="35" y="676"/>
                  </a:lnTo>
                  <a:lnTo>
                    <a:pt x="0" y="828"/>
                  </a:lnTo>
                  <a:lnTo>
                    <a:pt x="27" y="1081"/>
                  </a:lnTo>
                  <a:lnTo>
                    <a:pt x="51" y="1217"/>
                  </a:lnTo>
                  <a:lnTo>
                    <a:pt x="78" y="1251"/>
                  </a:lnTo>
                  <a:lnTo>
                    <a:pt x="133" y="1255"/>
                  </a:lnTo>
                  <a:lnTo>
                    <a:pt x="286" y="1271"/>
                  </a:lnTo>
                  <a:lnTo>
                    <a:pt x="399" y="1286"/>
                  </a:lnTo>
                  <a:lnTo>
                    <a:pt x="566" y="1271"/>
                  </a:lnTo>
                  <a:lnTo>
                    <a:pt x="731" y="1248"/>
                  </a:lnTo>
                  <a:lnTo>
                    <a:pt x="793" y="1232"/>
                  </a:lnTo>
                  <a:lnTo>
                    <a:pt x="789" y="1081"/>
                  </a:lnTo>
                  <a:lnTo>
                    <a:pt x="817" y="805"/>
                  </a:lnTo>
                  <a:lnTo>
                    <a:pt x="809" y="599"/>
                  </a:lnTo>
                  <a:lnTo>
                    <a:pt x="777" y="384"/>
                  </a:lnTo>
                  <a:lnTo>
                    <a:pt x="723" y="188"/>
                  </a:lnTo>
                  <a:lnTo>
                    <a:pt x="703" y="42"/>
                  </a:lnTo>
                  <a:lnTo>
                    <a:pt x="695" y="4"/>
                  </a:lnTo>
                  <a:lnTo>
                    <a:pt x="562" y="38"/>
                  </a:lnTo>
                  <a:lnTo>
                    <a:pt x="488" y="69"/>
                  </a:lnTo>
                  <a:lnTo>
                    <a:pt x="376" y="77"/>
                  </a:lnTo>
                  <a:lnTo>
                    <a:pt x="290" y="61"/>
                  </a:lnTo>
                  <a:lnTo>
                    <a:pt x="243" y="19"/>
                  </a:lnTo>
                  <a:close/>
                </a:path>
              </a:pathLst>
            </a:custGeom>
            <a:solidFill>
              <a:srgbClr val="e0e0e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038480" y="4757760"/>
              <a:ext cx="1254240" cy="1639800"/>
              <a:chOff x="4038480" y="4757760"/>
              <a:chExt cx="1254240" cy="16398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4038480" y="6072120"/>
                <a:ext cx="1254240" cy="325440"/>
                <a:chOff x="4038480" y="6072120"/>
                <a:chExt cx="1254240" cy="325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844880" y="6129360"/>
                  <a:ext cx="447840" cy="268200"/>
                </a:xfrm>
                <a:custGeom>
                  <a:avLst/>
                  <a:gdLst/>
                  <a:ahLst/>
                  <a:rect l="l" t="t" r="r" b="b"/>
                  <a:pathLst>
                    <a:path w="565" h="339">
                      <a:moveTo>
                        <a:pt x="1" y="42"/>
                      </a:moveTo>
                      <a:lnTo>
                        <a:pt x="0" y="85"/>
                      </a:lnTo>
                      <a:lnTo>
                        <a:pt x="1" y="114"/>
                      </a:lnTo>
                      <a:lnTo>
                        <a:pt x="4" y="141"/>
                      </a:lnTo>
                      <a:lnTo>
                        <a:pt x="17" y="179"/>
                      </a:lnTo>
                      <a:lnTo>
                        <a:pt x="77" y="211"/>
                      </a:lnTo>
                      <a:lnTo>
                        <a:pt x="108" y="210"/>
                      </a:lnTo>
                      <a:lnTo>
                        <a:pt x="115" y="237"/>
                      </a:lnTo>
                      <a:lnTo>
                        <a:pt x="133" y="252"/>
                      </a:lnTo>
                      <a:lnTo>
                        <a:pt x="160" y="270"/>
                      </a:lnTo>
                      <a:lnTo>
                        <a:pt x="202" y="289"/>
                      </a:lnTo>
                      <a:lnTo>
                        <a:pt x="315" y="320"/>
                      </a:lnTo>
                      <a:lnTo>
                        <a:pt x="370" y="333"/>
                      </a:lnTo>
                      <a:lnTo>
                        <a:pt x="433" y="339"/>
                      </a:lnTo>
                      <a:lnTo>
                        <a:pt x="489" y="335"/>
                      </a:lnTo>
                      <a:lnTo>
                        <a:pt x="519" y="326"/>
                      </a:lnTo>
                      <a:lnTo>
                        <a:pt x="545" y="308"/>
                      </a:lnTo>
                      <a:lnTo>
                        <a:pt x="559" y="285"/>
                      </a:lnTo>
                      <a:lnTo>
                        <a:pt x="563" y="259"/>
                      </a:lnTo>
                      <a:lnTo>
                        <a:pt x="565" y="244"/>
                      </a:lnTo>
                      <a:lnTo>
                        <a:pt x="563" y="230"/>
                      </a:lnTo>
                      <a:lnTo>
                        <a:pt x="558" y="219"/>
                      </a:lnTo>
                      <a:lnTo>
                        <a:pt x="549" y="206"/>
                      </a:lnTo>
                      <a:lnTo>
                        <a:pt x="482" y="172"/>
                      </a:lnTo>
                      <a:lnTo>
                        <a:pt x="424" y="133"/>
                      </a:lnTo>
                      <a:lnTo>
                        <a:pt x="304" y="0"/>
                      </a:lnTo>
                      <a:lnTo>
                        <a:pt x="1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038480" y="6072120"/>
                  <a:ext cx="525600" cy="214560"/>
                </a:xfrm>
                <a:custGeom>
                  <a:avLst/>
                  <a:gdLst/>
                  <a:ahLst/>
                  <a:rect l="l" t="t" r="r" b="b"/>
                  <a:pathLst>
                    <a:path w="661" h="268">
                      <a:moveTo>
                        <a:pt x="326" y="0"/>
                      </a:moveTo>
                      <a:lnTo>
                        <a:pt x="261" y="53"/>
                      </a:lnTo>
                      <a:lnTo>
                        <a:pt x="190" y="93"/>
                      </a:lnTo>
                      <a:lnTo>
                        <a:pt x="130" y="112"/>
                      </a:lnTo>
                      <a:lnTo>
                        <a:pt x="29" y="144"/>
                      </a:lnTo>
                      <a:lnTo>
                        <a:pt x="13" y="153"/>
                      </a:lnTo>
                      <a:lnTo>
                        <a:pt x="5" y="163"/>
                      </a:lnTo>
                      <a:lnTo>
                        <a:pt x="0" y="179"/>
                      </a:lnTo>
                      <a:lnTo>
                        <a:pt x="0" y="197"/>
                      </a:lnTo>
                      <a:lnTo>
                        <a:pt x="5" y="222"/>
                      </a:lnTo>
                      <a:lnTo>
                        <a:pt x="12" y="242"/>
                      </a:lnTo>
                      <a:lnTo>
                        <a:pt x="29" y="252"/>
                      </a:lnTo>
                      <a:lnTo>
                        <a:pt x="56" y="261"/>
                      </a:lnTo>
                      <a:lnTo>
                        <a:pt x="99" y="265"/>
                      </a:lnTo>
                      <a:lnTo>
                        <a:pt x="149" y="267"/>
                      </a:lnTo>
                      <a:lnTo>
                        <a:pt x="192" y="268"/>
                      </a:lnTo>
                      <a:lnTo>
                        <a:pt x="241" y="267"/>
                      </a:lnTo>
                      <a:lnTo>
                        <a:pt x="284" y="265"/>
                      </a:lnTo>
                      <a:lnTo>
                        <a:pt x="327" y="257"/>
                      </a:lnTo>
                      <a:lnTo>
                        <a:pt x="362" y="247"/>
                      </a:lnTo>
                      <a:lnTo>
                        <a:pt x="395" y="234"/>
                      </a:lnTo>
                      <a:lnTo>
                        <a:pt x="439" y="224"/>
                      </a:lnTo>
                      <a:lnTo>
                        <a:pt x="443" y="239"/>
                      </a:lnTo>
                      <a:lnTo>
                        <a:pt x="475" y="240"/>
                      </a:lnTo>
                      <a:lnTo>
                        <a:pt x="505" y="240"/>
                      </a:lnTo>
                      <a:lnTo>
                        <a:pt x="536" y="239"/>
                      </a:lnTo>
                      <a:lnTo>
                        <a:pt x="562" y="236"/>
                      </a:lnTo>
                      <a:lnTo>
                        <a:pt x="587" y="233"/>
                      </a:lnTo>
                      <a:lnTo>
                        <a:pt x="619" y="224"/>
                      </a:lnTo>
                      <a:lnTo>
                        <a:pt x="648" y="211"/>
                      </a:lnTo>
                      <a:lnTo>
                        <a:pt x="648" y="179"/>
                      </a:lnTo>
                      <a:lnTo>
                        <a:pt x="653" y="167"/>
                      </a:lnTo>
                      <a:lnTo>
                        <a:pt x="656" y="157"/>
                      </a:lnTo>
                      <a:lnTo>
                        <a:pt x="657" y="94"/>
                      </a:lnTo>
                      <a:lnTo>
                        <a:pt x="661" y="32"/>
                      </a:lnTo>
                      <a:lnTo>
                        <a:pt x="513" y="46"/>
                      </a:lnTo>
                      <a:lnTo>
                        <a:pt x="3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297320" y="4757760"/>
                <a:ext cx="819360" cy="1434960"/>
              </a:xfrm>
              <a:custGeom>
                <a:avLst/>
                <a:gdLst/>
                <a:ahLst/>
                <a:rect l="l" t="t" r="r" b="b"/>
                <a:pathLst>
                  <a:path w="1032" h="1808">
                    <a:moveTo>
                      <a:pt x="39" y="0"/>
                    </a:moveTo>
                    <a:lnTo>
                      <a:pt x="8" y="543"/>
                    </a:lnTo>
                    <a:lnTo>
                      <a:pt x="16" y="980"/>
                    </a:lnTo>
                    <a:lnTo>
                      <a:pt x="31" y="1149"/>
                    </a:lnTo>
                    <a:lnTo>
                      <a:pt x="55" y="1333"/>
                    </a:lnTo>
                    <a:lnTo>
                      <a:pt x="39" y="1510"/>
                    </a:lnTo>
                    <a:lnTo>
                      <a:pt x="0" y="1655"/>
                    </a:lnTo>
                    <a:lnTo>
                      <a:pt x="21" y="1678"/>
                    </a:lnTo>
                    <a:lnTo>
                      <a:pt x="40" y="1694"/>
                    </a:lnTo>
                    <a:lnTo>
                      <a:pt x="72" y="1708"/>
                    </a:lnTo>
                    <a:lnTo>
                      <a:pt x="102" y="1721"/>
                    </a:lnTo>
                    <a:lnTo>
                      <a:pt x="140" y="1733"/>
                    </a:lnTo>
                    <a:lnTo>
                      <a:pt x="180" y="1742"/>
                    </a:lnTo>
                    <a:lnTo>
                      <a:pt x="210" y="1749"/>
                    </a:lnTo>
                    <a:lnTo>
                      <a:pt x="248" y="1754"/>
                    </a:lnTo>
                    <a:lnTo>
                      <a:pt x="295" y="1763"/>
                    </a:lnTo>
                    <a:lnTo>
                      <a:pt x="346" y="1774"/>
                    </a:lnTo>
                    <a:lnTo>
                      <a:pt x="365" y="1778"/>
                    </a:lnTo>
                    <a:lnTo>
                      <a:pt x="373" y="1755"/>
                    </a:lnTo>
                    <a:lnTo>
                      <a:pt x="387" y="1712"/>
                    </a:lnTo>
                    <a:lnTo>
                      <a:pt x="399" y="1678"/>
                    </a:lnTo>
                    <a:lnTo>
                      <a:pt x="410" y="1634"/>
                    </a:lnTo>
                    <a:lnTo>
                      <a:pt x="413" y="1310"/>
                    </a:lnTo>
                    <a:lnTo>
                      <a:pt x="413" y="1018"/>
                    </a:lnTo>
                    <a:lnTo>
                      <a:pt x="390" y="689"/>
                    </a:lnTo>
                    <a:lnTo>
                      <a:pt x="398" y="482"/>
                    </a:lnTo>
                    <a:lnTo>
                      <a:pt x="406" y="417"/>
                    </a:lnTo>
                    <a:lnTo>
                      <a:pt x="484" y="728"/>
                    </a:lnTo>
                    <a:lnTo>
                      <a:pt x="554" y="1064"/>
                    </a:lnTo>
                    <a:lnTo>
                      <a:pt x="601" y="1256"/>
                    </a:lnTo>
                    <a:lnTo>
                      <a:pt x="633" y="1594"/>
                    </a:lnTo>
                    <a:lnTo>
                      <a:pt x="677" y="1786"/>
                    </a:lnTo>
                    <a:lnTo>
                      <a:pt x="721" y="1788"/>
                    </a:lnTo>
                    <a:lnTo>
                      <a:pt x="766" y="1792"/>
                    </a:lnTo>
                    <a:lnTo>
                      <a:pt x="810" y="1799"/>
                    </a:lnTo>
                    <a:lnTo>
                      <a:pt x="869" y="1805"/>
                    </a:lnTo>
                    <a:lnTo>
                      <a:pt x="909" y="1808"/>
                    </a:lnTo>
                    <a:lnTo>
                      <a:pt x="950" y="1800"/>
                    </a:lnTo>
                    <a:lnTo>
                      <a:pt x="989" y="1785"/>
                    </a:lnTo>
                    <a:lnTo>
                      <a:pt x="1003" y="1773"/>
                    </a:lnTo>
                    <a:lnTo>
                      <a:pt x="1019" y="1763"/>
                    </a:lnTo>
                    <a:lnTo>
                      <a:pt x="1032" y="1750"/>
                    </a:lnTo>
                    <a:lnTo>
                      <a:pt x="1010" y="1521"/>
                    </a:lnTo>
                    <a:lnTo>
                      <a:pt x="952" y="1204"/>
                    </a:lnTo>
                    <a:lnTo>
                      <a:pt x="921" y="959"/>
                    </a:lnTo>
                    <a:lnTo>
                      <a:pt x="813" y="406"/>
                    </a:lnTo>
                    <a:lnTo>
                      <a:pt x="766" y="0"/>
                    </a:lnTo>
                    <a:lnTo>
                      <a:pt x="578" y="33"/>
                    </a:lnTo>
                    <a:lnTo>
                      <a:pt x="400" y="43"/>
                    </a:lnTo>
                    <a:lnTo>
                      <a:pt x="193" y="3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738600" y="3757680"/>
              <a:ext cx="801720" cy="1222200"/>
              <a:chOff x="3738600" y="3757680"/>
              <a:chExt cx="801720" cy="12222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738600" y="3757680"/>
                <a:ext cx="801720" cy="1222200"/>
                <a:chOff x="3738600" y="3757680"/>
                <a:chExt cx="801720" cy="1222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738600" y="3757680"/>
                  <a:ext cx="801720" cy="1222200"/>
                </a:xfrm>
                <a:custGeom>
                  <a:avLst/>
                  <a:gdLst/>
                  <a:ahLst/>
                  <a:rect l="l" t="t" r="r" b="b"/>
                  <a:pathLst>
                    <a:path w="1009" h="1540">
                      <a:moveTo>
                        <a:pt x="417" y="576"/>
                      </a:moveTo>
                      <a:lnTo>
                        <a:pt x="387" y="575"/>
                      </a:lnTo>
                      <a:lnTo>
                        <a:pt x="345" y="569"/>
                      </a:lnTo>
                      <a:lnTo>
                        <a:pt x="275" y="540"/>
                      </a:lnTo>
                      <a:lnTo>
                        <a:pt x="120" y="487"/>
                      </a:lnTo>
                      <a:lnTo>
                        <a:pt x="96" y="491"/>
                      </a:lnTo>
                      <a:lnTo>
                        <a:pt x="74" y="499"/>
                      </a:lnTo>
                      <a:lnTo>
                        <a:pt x="50" y="514"/>
                      </a:lnTo>
                      <a:lnTo>
                        <a:pt x="35" y="529"/>
                      </a:lnTo>
                      <a:lnTo>
                        <a:pt x="20" y="552"/>
                      </a:lnTo>
                      <a:lnTo>
                        <a:pt x="11" y="578"/>
                      </a:lnTo>
                      <a:lnTo>
                        <a:pt x="3" y="612"/>
                      </a:lnTo>
                      <a:lnTo>
                        <a:pt x="1" y="640"/>
                      </a:lnTo>
                      <a:lnTo>
                        <a:pt x="0" y="670"/>
                      </a:lnTo>
                      <a:lnTo>
                        <a:pt x="1" y="704"/>
                      </a:lnTo>
                      <a:lnTo>
                        <a:pt x="5" y="736"/>
                      </a:lnTo>
                      <a:lnTo>
                        <a:pt x="11" y="763"/>
                      </a:lnTo>
                      <a:lnTo>
                        <a:pt x="135" y="800"/>
                      </a:lnTo>
                      <a:lnTo>
                        <a:pt x="187" y="824"/>
                      </a:lnTo>
                      <a:lnTo>
                        <a:pt x="221" y="844"/>
                      </a:lnTo>
                      <a:lnTo>
                        <a:pt x="250" y="859"/>
                      </a:lnTo>
                      <a:lnTo>
                        <a:pt x="275" y="869"/>
                      </a:lnTo>
                      <a:lnTo>
                        <a:pt x="311" y="880"/>
                      </a:lnTo>
                      <a:lnTo>
                        <a:pt x="384" y="900"/>
                      </a:lnTo>
                      <a:lnTo>
                        <a:pt x="507" y="927"/>
                      </a:lnTo>
                      <a:lnTo>
                        <a:pt x="597" y="942"/>
                      </a:lnTo>
                      <a:lnTo>
                        <a:pt x="619" y="936"/>
                      </a:lnTo>
                      <a:lnTo>
                        <a:pt x="634" y="920"/>
                      </a:lnTo>
                      <a:lnTo>
                        <a:pt x="644" y="896"/>
                      </a:lnTo>
                      <a:lnTo>
                        <a:pt x="673" y="835"/>
                      </a:lnTo>
                      <a:lnTo>
                        <a:pt x="679" y="873"/>
                      </a:lnTo>
                      <a:lnTo>
                        <a:pt x="686" y="972"/>
                      </a:lnTo>
                      <a:lnTo>
                        <a:pt x="682" y="1048"/>
                      </a:lnTo>
                      <a:lnTo>
                        <a:pt x="673" y="1088"/>
                      </a:lnTo>
                      <a:lnTo>
                        <a:pt x="671" y="1130"/>
                      </a:lnTo>
                      <a:lnTo>
                        <a:pt x="671" y="1171"/>
                      </a:lnTo>
                      <a:lnTo>
                        <a:pt x="666" y="1221"/>
                      </a:lnTo>
                      <a:lnTo>
                        <a:pt x="656" y="1267"/>
                      </a:lnTo>
                      <a:lnTo>
                        <a:pt x="627" y="1403"/>
                      </a:lnTo>
                      <a:lnTo>
                        <a:pt x="647" y="1426"/>
                      </a:lnTo>
                      <a:lnTo>
                        <a:pt x="674" y="1444"/>
                      </a:lnTo>
                      <a:lnTo>
                        <a:pt x="714" y="1459"/>
                      </a:lnTo>
                      <a:lnTo>
                        <a:pt x="756" y="1468"/>
                      </a:lnTo>
                      <a:lnTo>
                        <a:pt x="790" y="1480"/>
                      </a:lnTo>
                      <a:lnTo>
                        <a:pt x="828" y="1492"/>
                      </a:lnTo>
                      <a:lnTo>
                        <a:pt x="862" y="1505"/>
                      </a:lnTo>
                      <a:lnTo>
                        <a:pt x="900" y="1517"/>
                      </a:lnTo>
                      <a:lnTo>
                        <a:pt x="948" y="1531"/>
                      </a:lnTo>
                      <a:lnTo>
                        <a:pt x="1009" y="1540"/>
                      </a:lnTo>
                      <a:lnTo>
                        <a:pt x="981" y="1361"/>
                      </a:lnTo>
                      <a:lnTo>
                        <a:pt x="970" y="1303"/>
                      </a:lnTo>
                      <a:lnTo>
                        <a:pt x="965" y="1269"/>
                      </a:lnTo>
                      <a:lnTo>
                        <a:pt x="964" y="1230"/>
                      </a:lnTo>
                      <a:lnTo>
                        <a:pt x="960" y="1148"/>
                      </a:lnTo>
                      <a:lnTo>
                        <a:pt x="962" y="1034"/>
                      </a:lnTo>
                      <a:lnTo>
                        <a:pt x="982" y="744"/>
                      </a:lnTo>
                      <a:lnTo>
                        <a:pt x="970" y="291"/>
                      </a:lnTo>
                      <a:lnTo>
                        <a:pt x="924" y="43"/>
                      </a:lnTo>
                      <a:lnTo>
                        <a:pt x="806" y="22"/>
                      </a:lnTo>
                      <a:lnTo>
                        <a:pt x="764" y="13"/>
                      </a:lnTo>
                      <a:lnTo>
                        <a:pt x="735" y="4"/>
                      </a:lnTo>
                      <a:lnTo>
                        <a:pt x="717" y="0"/>
                      </a:lnTo>
                      <a:lnTo>
                        <a:pt x="695" y="0"/>
                      </a:lnTo>
                      <a:lnTo>
                        <a:pt x="677" y="3"/>
                      </a:lnTo>
                      <a:lnTo>
                        <a:pt x="658" y="8"/>
                      </a:lnTo>
                      <a:lnTo>
                        <a:pt x="639" y="17"/>
                      </a:lnTo>
                      <a:lnTo>
                        <a:pt x="619" y="32"/>
                      </a:lnTo>
                      <a:lnTo>
                        <a:pt x="601" y="53"/>
                      </a:lnTo>
                      <a:lnTo>
                        <a:pt x="590" y="72"/>
                      </a:lnTo>
                      <a:lnTo>
                        <a:pt x="584" y="99"/>
                      </a:lnTo>
                      <a:lnTo>
                        <a:pt x="584" y="135"/>
                      </a:lnTo>
                      <a:lnTo>
                        <a:pt x="577" y="182"/>
                      </a:lnTo>
                      <a:lnTo>
                        <a:pt x="557" y="284"/>
                      </a:lnTo>
                      <a:lnTo>
                        <a:pt x="494" y="538"/>
                      </a:lnTo>
                      <a:lnTo>
                        <a:pt x="485" y="572"/>
                      </a:lnTo>
                      <a:lnTo>
                        <a:pt x="456" y="576"/>
                      </a:lnTo>
                      <a:lnTo>
                        <a:pt x="417" y="5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280040" y="4084560"/>
                  <a:ext cx="87120" cy="328680"/>
                </a:xfrm>
                <a:custGeom>
                  <a:avLst/>
                  <a:gdLst/>
                  <a:ahLst/>
                  <a:rect l="l" t="t" r="r" b="b"/>
                  <a:pathLst>
                    <a:path w="110" h="414">
                      <a:moveTo>
                        <a:pt x="0" y="414"/>
                      </a:moveTo>
                      <a:lnTo>
                        <a:pt x="40" y="277"/>
                      </a:lnTo>
                      <a:lnTo>
                        <a:pt x="79" y="139"/>
                      </a:lnTo>
                      <a:lnTo>
                        <a:pt x="71" y="23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125960" y="421308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92" h="84">
                    <a:moveTo>
                      <a:pt x="0" y="2"/>
                    </a:moveTo>
                    <a:lnTo>
                      <a:pt x="43" y="0"/>
                    </a:lnTo>
                    <a:lnTo>
                      <a:pt x="67" y="10"/>
                    </a:lnTo>
                    <a:lnTo>
                      <a:pt x="84" y="30"/>
                    </a:lnTo>
                    <a:lnTo>
                      <a:pt x="92" y="61"/>
                    </a:lnTo>
                    <a:lnTo>
                      <a:pt x="90" y="8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68960" y="3792600"/>
                <a:ext cx="168120" cy="949320"/>
              </a:xfrm>
              <a:custGeom>
                <a:avLst/>
                <a:gdLst/>
                <a:ahLst/>
                <a:rect l="l" t="t" r="r" b="b"/>
                <a:pathLst>
                  <a:path w="211" h="1195">
                    <a:moveTo>
                      <a:pt x="129" y="0"/>
                    </a:moveTo>
                    <a:lnTo>
                      <a:pt x="97" y="79"/>
                    </a:lnTo>
                    <a:lnTo>
                      <a:pt x="83" y="109"/>
                    </a:lnTo>
                    <a:lnTo>
                      <a:pt x="70" y="134"/>
                    </a:lnTo>
                    <a:lnTo>
                      <a:pt x="47" y="168"/>
                    </a:lnTo>
                    <a:lnTo>
                      <a:pt x="29" y="188"/>
                    </a:lnTo>
                    <a:lnTo>
                      <a:pt x="0" y="219"/>
                    </a:lnTo>
                    <a:lnTo>
                      <a:pt x="98" y="223"/>
                    </a:lnTo>
                    <a:lnTo>
                      <a:pt x="31" y="311"/>
                    </a:lnTo>
                    <a:lnTo>
                      <a:pt x="68" y="400"/>
                    </a:lnTo>
                    <a:lnTo>
                      <a:pt x="82" y="439"/>
                    </a:lnTo>
                    <a:lnTo>
                      <a:pt x="94" y="480"/>
                    </a:lnTo>
                    <a:lnTo>
                      <a:pt x="104" y="531"/>
                    </a:lnTo>
                    <a:lnTo>
                      <a:pt x="124" y="651"/>
                    </a:lnTo>
                    <a:lnTo>
                      <a:pt x="133" y="718"/>
                    </a:lnTo>
                    <a:lnTo>
                      <a:pt x="138" y="787"/>
                    </a:lnTo>
                    <a:lnTo>
                      <a:pt x="141" y="839"/>
                    </a:lnTo>
                    <a:lnTo>
                      <a:pt x="141" y="985"/>
                    </a:lnTo>
                    <a:lnTo>
                      <a:pt x="143" y="1025"/>
                    </a:lnTo>
                    <a:lnTo>
                      <a:pt x="150" y="1077"/>
                    </a:lnTo>
                    <a:lnTo>
                      <a:pt x="167" y="1195"/>
                    </a:lnTo>
                    <a:lnTo>
                      <a:pt x="188" y="912"/>
                    </a:lnTo>
                    <a:lnTo>
                      <a:pt x="194" y="839"/>
                    </a:lnTo>
                    <a:lnTo>
                      <a:pt x="203" y="736"/>
                    </a:lnTo>
                    <a:lnTo>
                      <a:pt x="207" y="681"/>
                    </a:lnTo>
                    <a:lnTo>
                      <a:pt x="210" y="627"/>
                    </a:lnTo>
                    <a:lnTo>
                      <a:pt x="210" y="557"/>
                    </a:lnTo>
                    <a:lnTo>
                      <a:pt x="211" y="477"/>
                    </a:lnTo>
                    <a:lnTo>
                      <a:pt x="211" y="399"/>
                    </a:lnTo>
                    <a:lnTo>
                      <a:pt x="210" y="352"/>
                    </a:lnTo>
                    <a:lnTo>
                      <a:pt x="205" y="271"/>
                    </a:lnTo>
                    <a:lnTo>
                      <a:pt x="202" y="229"/>
                    </a:lnTo>
                    <a:lnTo>
                      <a:pt x="196" y="180"/>
                    </a:lnTo>
                    <a:lnTo>
                      <a:pt x="189" y="152"/>
                    </a:lnTo>
                    <a:lnTo>
                      <a:pt x="181" y="121"/>
                    </a:lnTo>
                    <a:lnTo>
                      <a:pt x="173" y="97"/>
                    </a:lnTo>
                    <a:lnTo>
                      <a:pt x="166" y="7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538520" y="3873600"/>
              <a:ext cx="131760" cy="952560"/>
            </a:xfrm>
            <a:custGeom>
              <a:avLst/>
              <a:gdLst/>
              <a:ahLst/>
              <a:rect l="l" t="t" r="r" b="b"/>
              <a:pathLst>
                <a:path w="164" h="1200">
                  <a:moveTo>
                    <a:pt x="52" y="0"/>
                  </a:moveTo>
                  <a:lnTo>
                    <a:pt x="25" y="173"/>
                  </a:lnTo>
                  <a:lnTo>
                    <a:pt x="5" y="399"/>
                  </a:lnTo>
                  <a:lnTo>
                    <a:pt x="9" y="859"/>
                  </a:lnTo>
                  <a:lnTo>
                    <a:pt x="0" y="1074"/>
                  </a:lnTo>
                  <a:lnTo>
                    <a:pt x="78" y="1200"/>
                  </a:lnTo>
                  <a:lnTo>
                    <a:pt x="159" y="1074"/>
                  </a:lnTo>
                  <a:lnTo>
                    <a:pt x="156" y="859"/>
                  </a:lnTo>
                  <a:lnTo>
                    <a:pt x="164" y="395"/>
                  </a:lnTo>
                  <a:lnTo>
                    <a:pt x="133" y="154"/>
                  </a:lnTo>
                  <a:lnTo>
                    <a:pt x="9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0840" y="3786120"/>
              <a:ext cx="738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3" y="5577"/>
                  </a:moveTo>
                  <a:arcTo wR="10800" hR="10800" stAng="-1735259" swAng="13712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3" y="5577"/>
                  </a:moveTo>
                  <a:arcTo wR="10800" hR="10800" stAng="-1735259" swAng="13712686"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3720" y="3763800"/>
              <a:ext cx="250560" cy="146160"/>
            </a:xfrm>
            <a:custGeom>
              <a:avLst/>
              <a:gdLst/>
              <a:ahLst/>
              <a:rect l="l" t="t" r="r" b="b"/>
              <a:pathLst>
                <a:path w="317" h="184">
                  <a:moveTo>
                    <a:pt x="30" y="0"/>
                  </a:moveTo>
                  <a:lnTo>
                    <a:pt x="158" y="79"/>
                  </a:lnTo>
                  <a:lnTo>
                    <a:pt x="294" y="0"/>
                  </a:lnTo>
                  <a:lnTo>
                    <a:pt x="317" y="38"/>
                  </a:lnTo>
                  <a:lnTo>
                    <a:pt x="229" y="184"/>
                  </a:lnTo>
                  <a:lnTo>
                    <a:pt x="158" y="85"/>
                  </a:lnTo>
                  <a:lnTo>
                    <a:pt x="90" y="183"/>
                  </a:lnTo>
                  <a:lnTo>
                    <a:pt x="0" y="3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5880" y="4162320"/>
              <a:ext cx="71640" cy="193680"/>
            </a:xfrm>
            <a:custGeom>
              <a:avLst/>
              <a:gdLst/>
              <a:ahLst/>
              <a:rect l="l" t="t" r="r" b="b"/>
              <a:pathLst>
                <a:path w="90" h="244">
                  <a:moveTo>
                    <a:pt x="75" y="0"/>
                  </a:moveTo>
                  <a:lnTo>
                    <a:pt x="83" y="24"/>
                  </a:lnTo>
                  <a:lnTo>
                    <a:pt x="87" y="46"/>
                  </a:lnTo>
                  <a:lnTo>
                    <a:pt x="90" y="75"/>
                  </a:lnTo>
                  <a:lnTo>
                    <a:pt x="90" y="94"/>
                  </a:lnTo>
                  <a:lnTo>
                    <a:pt x="90" y="117"/>
                  </a:lnTo>
                  <a:lnTo>
                    <a:pt x="84" y="147"/>
                  </a:lnTo>
                  <a:lnTo>
                    <a:pt x="75" y="179"/>
                  </a:lnTo>
                  <a:lnTo>
                    <a:pt x="66" y="201"/>
                  </a:lnTo>
                  <a:lnTo>
                    <a:pt x="55" y="221"/>
                  </a:lnTo>
                  <a:lnTo>
                    <a:pt x="41" y="235"/>
                  </a:lnTo>
                  <a:lnTo>
                    <a:pt x="24" y="243"/>
                  </a:lnTo>
                  <a:lnTo>
                    <a:pt x="10" y="244"/>
                  </a:lnTo>
                  <a:lnTo>
                    <a:pt x="4" y="229"/>
                  </a:lnTo>
                  <a:lnTo>
                    <a:pt x="3" y="216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6" y="124"/>
                  </a:lnTo>
                  <a:lnTo>
                    <a:pt x="41" y="14"/>
                  </a:lnTo>
                  <a:lnTo>
                    <a:pt x="59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0202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665600" y="3763800"/>
              <a:ext cx="801720" cy="1222560"/>
              <a:chOff x="4665600" y="3763800"/>
              <a:chExt cx="801720" cy="12225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665600" y="3763800"/>
                <a:ext cx="801720" cy="1222560"/>
                <a:chOff x="4665600" y="3763800"/>
                <a:chExt cx="801720" cy="12225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665600" y="3763800"/>
                  <a:ext cx="801720" cy="1222560"/>
                  <a:chOff x="4665600" y="3763800"/>
                  <a:chExt cx="801720" cy="1222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65600" y="3763800"/>
                    <a:ext cx="80172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0" h="1539">
                        <a:moveTo>
                          <a:pt x="592" y="576"/>
                        </a:moveTo>
                        <a:lnTo>
                          <a:pt x="622" y="575"/>
                        </a:lnTo>
                        <a:lnTo>
                          <a:pt x="664" y="568"/>
                        </a:lnTo>
                        <a:lnTo>
                          <a:pt x="734" y="540"/>
                        </a:lnTo>
                        <a:lnTo>
                          <a:pt x="890" y="486"/>
                        </a:lnTo>
                        <a:lnTo>
                          <a:pt x="913" y="490"/>
                        </a:lnTo>
                        <a:lnTo>
                          <a:pt x="935" y="499"/>
                        </a:lnTo>
                        <a:lnTo>
                          <a:pt x="959" y="513"/>
                        </a:lnTo>
                        <a:lnTo>
                          <a:pt x="974" y="529"/>
                        </a:lnTo>
                        <a:lnTo>
                          <a:pt x="989" y="552"/>
                        </a:lnTo>
                        <a:lnTo>
                          <a:pt x="998" y="577"/>
                        </a:lnTo>
                        <a:lnTo>
                          <a:pt x="1006" y="612"/>
                        </a:lnTo>
                        <a:lnTo>
                          <a:pt x="1008" y="640"/>
                        </a:lnTo>
                        <a:lnTo>
                          <a:pt x="1010" y="669"/>
                        </a:lnTo>
                        <a:lnTo>
                          <a:pt x="1008" y="704"/>
                        </a:lnTo>
                        <a:lnTo>
                          <a:pt x="1004" y="736"/>
                        </a:lnTo>
                        <a:lnTo>
                          <a:pt x="998" y="763"/>
                        </a:lnTo>
                        <a:lnTo>
                          <a:pt x="874" y="800"/>
                        </a:lnTo>
                        <a:lnTo>
                          <a:pt x="822" y="824"/>
                        </a:lnTo>
                        <a:lnTo>
                          <a:pt x="788" y="843"/>
                        </a:lnTo>
                        <a:lnTo>
                          <a:pt x="759" y="859"/>
                        </a:lnTo>
                        <a:lnTo>
                          <a:pt x="734" y="869"/>
                        </a:lnTo>
                        <a:lnTo>
                          <a:pt x="698" y="879"/>
                        </a:lnTo>
                        <a:lnTo>
                          <a:pt x="625" y="900"/>
                        </a:lnTo>
                        <a:lnTo>
                          <a:pt x="502" y="927"/>
                        </a:lnTo>
                        <a:lnTo>
                          <a:pt x="412" y="942"/>
                        </a:lnTo>
                        <a:lnTo>
                          <a:pt x="390" y="935"/>
                        </a:lnTo>
                        <a:lnTo>
                          <a:pt x="376" y="920"/>
                        </a:lnTo>
                        <a:lnTo>
                          <a:pt x="365" y="896"/>
                        </a:lnTo>
                        <a:lnTo>
                          <a:pt x="337" y="834"/>
                        </a:lnTo>
                        <a:lnTo>
                          <a:pt x="330" y="873"/>
                        </a:lnTo>
                        <a:lnTo>
                          <a:pt x="324" y="971"/>
                        </a:lnTo>
                        <a:lnTo>
                          <a:pt x="327" y="1048"/>
                        </a:lnTo>
                        <a:lnTo>
                          <a:pt x="337" y="1088"/>
                        </a:lnTo>
                        <a:lnTo>
                          <a:pt x="338" y="1130"/>
                        </a:lnTo>
                        <a:lnTo>
                          <a:pt x="338" y="1171"/>
                        </a:lnTo>
                        <a:lnTo>
                          <a:pt x="343" y="1221"/>
                        </a:lnTo>
                        <a:lnTo>
                          <a:pt x="354" y="1267"/>
                        </a:lnTo>
                        <a:lnTo>
                          <a:pt x="382" y="1403"/>
                        </a:lnTo>
                        <a:lnTo>
                          <a:pt x="363" y="1426"/>
                        </a:lnTo>
                        <a:lnTo>
                          <a:pt x="335" y="1444"/>
                        </a:lnTo>
                        <a:lnTo>
                          <a:pt x="295" y="1459"/>
                        </a:lnTo>
                        <a:lnTo>
                          <a:pt x="253" y="1468"/>
                        </a:lnTo>
                        <a:lnTo>
                          <a:pt x="219" y="1479"/>
                        </a:lnTo>
                        <a:lnTo>
                          <a:pt x="181" y="1492"/>
                        </a:lnTo>
                        <a:lnTo>
                          <a:pt x="147" y="1505"/>
                        </a:lnTo>
                        <a:lnTo>
                          <a:pt x="110" y="1516"/>
                        </a:lnTo>
                        <a:lnTo>
                          <a:pt x="61" y="1531"/>
                        </a:lnTo>
                        <a:lnTo>
                          <a:pt x="0" y="1539"/>
                        </a:lnTo>
                        <a:lnTo>
                          <a:pt x="29" y="1360"/>
                        </a:lnTo>
                        <a:lnTo>
                          <a:pt x="39" y="1303"/>
                        </a:lnTo>
                        <a:lnTo>
                          <a:pt x="44" y="1268"/>
                        </a:lnTo>
                        <a:lnTo>
                          <a:pt x="46" y="1230"/>
                        </a:lnTo>
                        <a:lnTo>
                          <a:pt x="50" y="1148"/>
                        </a:lnTo>
                        <a:lnTo>
                          <a:pt x="47" y="1034"/>
                        </a:lnTo>
                        <a:lnTo>
                          <a:pt x="27" y="742"/>
                        </a:lnTo>
                        <a:lnTo>
                          <a:pt x="39" y="291"/>
                        </a:lnTo>
                        <a:lnTo>
                          <a:pt x="85" y="42"/>
                        </a:lnTo>
                        <a:lnTo>
                          <a:pt x="204" y="22"/>
                        </a:lnTo>
                        <a:lnTo>
                          <a:pt x="245" y="12"/>
                        </a:lnTo>
                        <a:lnTo>
                          <a:pt x="274" y="4"/>
                        </a:lnTo>
                        <a:lnTo>
                          <a:pt x="292" y="0"/>
                        </a:lnTo>
                        <a:lnTo>
                          <a:pt x="314" y="0"/>
                        </a:lnTo>
                        <a:lnTo>
                          <a:pt x="333" y="3"/>
                        </a:lnTo>
                        <a:lnTo>
                          <a:pt x="351" y="6"/>
                        </a:lnTo>
                        <a:lnTo>
                          <a:pt x="371" y="17"/>
                        </a:lnTo>
                        <a:lnTo>
                          <a:pt x="390" y="32"/>
                        </a:lnTo>
                        <a:lnTo>
                          <a:pt x="408" y="53"/>
                        </a:lnTo>
                        <a:lnTo>
                          <a:pt x="419" y="72"/>
                        </a:lnTo>
                        <a:lnTo>
                          <a:pt x="425" y="99"/>
                        </a:lnTo>
                        <a:lnTo>
                          <a:pt x="425" y="134"/>
                        </a:lnTo>
                        <a:lnTo>
                          <a:pt x="432" y="182"/>
                        </a:lnTo>
                        <a:lnTo>
                          <a:pt x="453" y="284"/>
                        </a:lnTo>
                        <a:lnTo>
                          <a:pt x="515" y="538"/>
                        </a:lnTo>
                        <a:lnTo>
                          <a:pt x="524" y="572"/>
                        </a:lnTo>
                        <a:lnTo>
                          <a:pt x="553" y="576"/>
                        </a:lnTo>
                        <a:lnTo>
                          <a:pt x="592" y="57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840200" y="4091040"/>
                    <a:ext cx="85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13">
                        <a:moveTo>
                          <a:pt x="110" y="413"/>
                        </a:moveTo>
                        <a:lnTo>
                          <a:pt x="71" y="277"/>
                        </a:lnTo>
                        <a:lnTo>
                          <a:pt x="32" y="138"/>
                        </a:lnTo>
                        <a:lnTo>
                          <a:pt x="39" y="2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5006880" y="4219560"/>
                  <a:ext cx="73080" cy="66600"/>
                </a:xfrm>
                <a:custGeom>
                  <a:avLst/>
                  <a:gdLst/>
                  <a:ahLst/>
                  <a:rect l="l" t="t" r="r" b="b"/>
                  <a:pathLst>
                    <a:path w="91" h="85">
                      <a:moveTo>
                        <a:pt x="91" y="3"/>
                      </a:moveTo>
                      <a:lnTo>
                        <a:pt x="48" y="0"/>
                      </a:lnTo>
                      <a:lnTo>
                        <a:pt x="24" y="11"/>
                      </a:lnTo>
                      <a:lnTo>
                        <a:pt x="7" y="31"/>
                      </a:lnTo>
                      <a:lnTo>
                        <a:pt x="0" y="62"/>
                      </a:lnTo>
                      <a:lnTo>
                        <a:pt x="1" y="8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4668840" y="3798720"/>
                <a:ext cx="168120" cy="947880"/>
              </a:xfrm>
              <a:custGeom>
                <a:avLst/>
                <a:gdLst/>
                <a:ahLst/>
                <a:rect l="l" t="t" r="r" b="b"/>
                <a:pathLst>
                  <a:path w="211" h="1195">
                    <a:moveTo>
                      <a:pt x="82" y="0"/>
                    </a:moveTo>
                    <a:lnTo>
                      <a:pt x="115" y="79"/>
                    </a:lnTo>
                    <a:lnTo>
                      <a:pt x="128" y="108"/>
                    </a:lnTo>
                    <a:lnTo>
                      <a:pt x="141" y="134"/>
                    </a:lnTo>
                    <a:lnTo>
                      <a:pt x="164" y="167"/>
                    </a:lnTo>
                    <a:lnTo>
                      <a:pt x="183" y="188"/>
                    </a:lnTo>
                    <a:lnTo>
                      <a:pt x="211" y="218"/>
                    </a:lnTo>
                    <a:lnTo>
                      <a:pt x="113" y="222"/>
                    </a:lnTo>
                    <a:lnTo>
                      <a:pt x="180" y="311"/>
                    </a:lnTo>
                    <a:lnTo>
                      <a:pt x="143" y="400"/>
                    </a:lnTo>
                    <a:lnTo>
                      <a:pt x="129" y="439"/>
                    </a:lnTo>
                    <a:lnTo>
                      <a:pt x="117" y="479"/>
                    </a:lnTo>
                    <a:lnTo>
                      <a:pt x="107" y="531"/>
                    </a:lnTo>
                    <a:lnTo>
                      <a:pt x="87" y="651"/>
                    </a:lnTo>
                    <a:lnTo>
                      <a:pt x="78" y="717"/>
                    </a:lnTo>
                    <a:lnTo>
                      <a:pt x="73" y="787"/>
                    </a:lnTo>
                    <a:lnTo>
                      <a:pt x="70" y="839"/>
                    </a:lnTo>
                    <a:lnTo>
                      <a:pt x="70" y="985"/>
                    </a:lnTo>
                    <a:lnTo>
                      <a:pt x="68" y="1025"/>
                    </a:lnTo>
                    <a:lnTo>
                      <a:pt x="61" y="1077"/>
                    </a:lnTo>
                    <a:lnTo>
                      <a:pt x="44" y="1195"/>
                    </a:lnTo>
                    <a:lnTo>
                      <a:pt x="23" y="912"/>
                    </a:lnTo>
                    <a:lnTo>
                      <a:pt x="17" y="839"/>
                    </a:lnTo>
                    <a:lnTo>
                      <a:pt x="8" y="735"/>
                    </a:lnTo>
                    <a:lnTo>
                      <a:pt x="4" y="680"/>
                    </a:lnTo>
                    <a:lnTo>
                      <a:pt x="1" y="627"/>
                    </a:lnTo>
                    <a:lnTo>
                      <a:pt x="1" y="556"/>
                    </a:lnTo>
                    <a:lnTo>
                      <a:pt x="0" y="477"/>
                    </a:lnTo>
                    <a:lnTo>
                      <a:pt x="0" y="399"/>
                    </a:lnTo>
                    <a:lnTo>
                      <a:pt x="1" y="351"/>
                    </a:lnTo>
                    <a:lnTo>
                      <a:pt x="6" y="271"/>
                    </a:lnTo>
                    <a:lnTo>
                      <a:pt x="9" y="229"/>
                    </a:lnTo>
                    <a:lnTo>
                      <a:pt x="16" y="180"/>
                    </a:lnTo>
                    <a:lnTo>
                      <a:pt x="22" y="152"/>
                    </a:lnTo>
                    <a:lnTo>
                      <a:pt x="30" y="121"/>
                    </a:lnTo>
                    <a:lnTo>
                      <a:pt x="38" y="97"/>
                    </a:lnTo>
                    <a:lnTo>
                      <a:pt x="46" y="7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365640" y="4087800"/>
              <a:ext cx="461880" cy="345960"/>
              <a:chOff x="3365640" y="4087800"/>
              <a:chExt cx="461880" cy="3459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365640" y="4087800"/>
                <a:ext cx="461880" cy="345960"/>
                <a:chOff x="3365640" y="4087800"/>
                <a:chExt cx="461880" cy="345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06840" y="4100400"/>
                  <a:ext cx="220680" cy="225360"/>
                </a:xfrm>
                <a:custGeom>
                  <a:avLst/>
                  <a:gdLst/>
                  <a:ahLst/>
                  <a:rect l="l" t="t" r="r" b="b"/>
                  <a:pathLst>
                    <a:path w="278" h="284">
                      <a:moveTo>
                        <a:pt x="0" y="0"/>
                      </a:moveTo>
                      <a:lnTo>
                        <a:pt x="265" y="88"/>
                      </a:lnTo>
                      <a:lnTo>
                        <a:pt x="274" y="138"/>
                      </a:lnTo>
                      <a:lnTo>
                        <a:pt x="278" y="184"/>
                      </a:lnTo>
                      <a:lnTo>
                        <a:pt x="266" y="238"/>
                      </a:lnTo>
                      <a:lnTo>
                        <a:pt x="243" y="284"/>
                      </a:lnTo>
                      <a:lnTo>
                        <a:pt x="149" y="219"/>
                      </a:lnTo>
                      <a:lnTo>
                        <a:pt x="43" y="2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5640" y="4087800"/>
                  <a:ext cx="358560" cy="345960"/>
                </a:xfrm>
                <a:custGeom>
                  <a:avLst/>
                  <a:gdLst/>
                  <a:ahLst/>
                  <a:rect l="l" t="t" r="r" b="b"/>
                  <a:pathLst>
                    <a:path w="452" h="435">
                      <a:moveTo>
                        <a:pt x="430" y="83"/>
                      </a:moveTo>
                      <a:lnTo>
                        <a:pt x="417" y="69"/>
                      </a:lnTo>
                      <a:lnTo>
                        <a:pt x="400" y="58"/>
                      </a:lnTo>
                      <a:lnTo>
                        <a:pt x="381" y="51"/>
                      </a:lnTo>
                      <a:lnTo>
                        <a:pt x="354" y="46"/>
                      </a:lnTo>
                      <a:lnTo>
                        <a:pt x="343" y="39"/>
                      </a:lnTo>
                      <a:lnTo>
                        <a:pt x="324" y="26"/>
                      </a:lnTo>
                      <a:lnTo>
                        <a:pt x="300" y="11"/>
                      </a:lnTo>
                      <a:lnTo>
                        <a:pt x="274" y="2"/>
                      </a:lnTo>
                      <a:lnTo>
                        <a:pt x="259" y="0"/>
                      </a:lnTo>
                      <a:lnTo>
                        <a:pt x="245" y="3"/>
                      </a:lnTo>
                      <a:lnTo>
                        <a:pt x="225" y="11"/>
                      </a:lnTo>
                      <a:lnTo>
                        <a:pt x="208" y="18"/>
                      </a:lnTo>
                      <a:lnTo>
                        <a:pt x="193" y="23"/>
                      </a:lnTo>
                      <a:lnTo>
                        <a:pt x="171" y="27"/>
                      </a:lnTo>
                      <a:lnTo>
                        <a:pt x="135" y="27"/>
                      </a:lnTo>
                      <a:lnTo>
                        <a:pt x="112" y="26"/>
                      </a:lnTo>
                      <a:lnTo>
                        <a:pt x="87" y="21"/>
                      </a:lnTo>
                      <a:lnTo>
                        <a:pt x="64" y="16"/>
                      </a:lnTo>
                      <a:lnTo>
                        <a:pt x="49" y="16"/>
                      </a:lnTo>
                      <a:lnTo>
                        <a:pt x="32" y="19"/>
                      </a:lnTo>
                      <a:lnTo>
                        <a:pt x="17" y="27"/>
                      </a:lnTo>
                      <a:lnTo>
                        <a:pt x="13" y="35"/>
                      </a:lnTo>
                      <a:lnTo>
                        <a:pt x="13" y="44"/>
                      </a:lnTo>
                      <a:lnTo>
                        <a:pt x="14" y="57"/>
                      </a:lnTo>
                      <a:lnTo>
                        <a:pt x="24" y="64"/>
                      </a:lnTo>
                      <a:lnTo>
                        <a:pt x="65" y="67"/>
                      </a:lnTo>
                      <a:lnTo>
                        <a:pt x="97" y="78"/>
                      </a:lnTo>
                      <a:lnTo>
                        <a:pt x="151" y="89"/>
                      </a:lnTo>
                      <a:lnTo>
                        <a:pt x="160" y="92"/>
                      </a:lnTo>
                      <a:lnTo>
                        <a:pt x="169" y="106"/>
                      </a:lnTo>
                      <a:lnTo>
                        <a:pt x="169" y="119"/>
                      </a:lnTo>
                      <a:lnTo>
                        <a:pt x="155" y="158"/>
                      </a:lnTo>
                      <a:lnTo>
                        <a:pt x="135" y="190"/>
                      </a:lnTo>
                      <a:lnTo>
                        <a:pt x="109" y="219"/>
                      </a:lnTo>
                      <a:lnTo>
                        <a:pt x="69" y="251"/>
                      </a:lnTo>
                      <a:lnTo>
                        <a:pt x="40" y="274"/>
                      </a:lnTo>
                      <a:lnTo>
                        <a:pt x="28" y="281"/>
                      </a:lnTo>
                      <a:lnTo>
                        <a:pt x="17" y="288"/>
                      </a:lnTo>
                      <a:lnTo>
                        <a:pt x="6" y="297"/>
                      </a:lnTo>
                      <a:lnTo>
                        <a:pt x="0" y="307"/>
                      </a:lnTo>
                      <a:lnTo>
                        <a:pt x="0" y="318"/>
                      </a:lnTo>
                      <a:lnTo>
                        <a:pt x="4" y="329"/>
                      </a:lnTo>
                      <a:lnTo>
                        <a:pt x="10" y="334"/>
                      </a:lnTo>
                      <a:lnTo>
                        <a:pt x="23" y="337"/>
                      </a:lnTo>
                      <a:lnTo>
                        <a:pt x="39" y="336"/>
                      </a:lnTo>
                      <a:lnTo>
                        <a:pt x="53" y="329"/>
                      </a:lnTo>
                      <a:lnTo>
                        <a:pt x="81" y="307"/>
                      </a:lnTo>
                      <a:lnTo>
                        <a:pt x="130" y="278"/>
                      </a:lnTo>
                      <a:lnTo>
                        <a:pt x="169" y="242"/>
                      </a:lnTo>
                      <a:lnTo>
                        <a:pt x="174" y="237"/>
                      </a:lnTo>
                      <a:lnTo>
                        <a:pt x="181" y="238"/>
                      </a:lnTo>
                      <a:lnTo>
                        <a:pt x="178" y="249"/>
                      </a:lnTo>
                      <a:lnTo>
                        <a:pt x="139" y="287"/>
                      </a:lnTo>
                      <a:lnTo>
                        <a:pt x="126" y="300"/>
                      </a:lnTo>
                      <a:lnTo>
                        <a:pt x="112" y="315"/>
                      </a:lnTo>
                      <a:lnTo>
                        <a:pt x="82" y="336"/>
                      </a:lnTo>
                      <a:lnTo>
                        <a:pt x="66" y="350"/>
                      </a:lnTo>
                      <a:lnTo>
                        <a:pt x="61" y="361"/>
                      </a:lnTo>
                      <a:lnTo>
                        <a:pt x="62" y="374"/>
                      </a:lnTo>
                      <a:lnTo>
                        <a:pt x="69" y="383"/>
                      </a:lnTo>
                      <a:lnTo>
                        <a:pt x="78" y="389"/>
                      </a:lnTo>
                      <a:lnTo>
                        <a:pt x="92" y="392"/>
                      </a:lnTo>
                      <a:lnTo>
                        <a:pt x="108" y="389"/>
                      </a:lnTo>
                      <a:lnTo>
                        <a:pt x="120" y="383"/>
                      </a:lnTo>
                      <a:lnTo>
                        <a:pt x="156" y="352"/>
                      </a:lnTo>
                      <a:lnTo>
                        <a:pt x="180" y="328"/>
                      </a:lnTo>
                      <a:lnTo>
                        <a:pt x="240" y="260"/>
                      </a:lnTo>
                      <a:lnTo>
                        <a:pt x="219" y="288"/>
                      </a:lnTo>
                      <a:lnTo>
                        <a:pt x="210" y="311"/>
                      </a:lnTo>
                      <a:lnTo>
                        <a:pt x="204" y="323"/>
                      </a:lnTo>
                      <a:lnTo>
                        <a:pt x="194" y="345"/>
                      </a:lnTo>
                      <a:lnTo>
                        <a:pt x="168" y="379"/>
                      </a:lnTo>
                      <a:lnTo>
                        <a:pt x="159" y="391"/>
                      </a:lnTo>
                      <a:lnTo>
                        <a:pt x="154" y="402"/>
                      </a:lnTo>
                      <a:lnTo>
                        <a:pt x="152" y="412"/>
                      </a:lnTo>
                      <a:lnTo>
                        <a:pt x="155" y="421"/>
                      </a:lnTo>
                      <a:lnTo>
                        <a:pt x="163" y="430"/>
                      </a:lnTo>
                      <a:lnTo>
                        <a:pt x="173" y="435"/>
                      </a:lnTo>
                      <a:lnTo>
                        <a:pt x="189" y="434"/>
                      </a:lnTo>
                      <a:lnTo>
                        <a:pt x="201" y="430"/>
                      </a:lnTo>
                      <a:lnTo>
                        <a:pt x="249" y="364"/>
                      </a:lnTo>
                      <a:lnTo>
                        <a:pt x="276" y="310"/>
                      </a:lnTo>
                      <a:lnTo>
                        <a:pt x="298" y="268"/>
                      </a:lnTo>
                      <a:lnTo>
                        <a:pt x="302" y="261"/>
                      </a:lnTo>
                      <a:lnTo>
                        <a:pt x="310" y="261"/>
                      </a:lnTo>
                      <a:lnTo>
                        <a:pt x="313" y="266"/>
                      </a:lnTo>
                      <a:lnTo>
                        <a:pt x="309" y="297"/>
                      </a:lnTo>
                      <a:lnTo>
                        <a:pt x="306" y="321"/>
                      </a:lnTo>
                      <a:lnTo>
                        <a:pt x="308" y="353"/>
                      </a:lnTo>
                      <a:lnTo>
                        <a:pt x="308" y="396"/>
                      </a:lnTo>
                      <a:lnTo>
                        <a:pt x="309" y="403"/>
                      </a:lnTo>
                      <a:lnTo>
                        <a:pt x="314" y="411"/>
                      </a:lnTo>
                      <a:lnTo>
                        <a:pt x="323" y="419"/>
                      </a:lnTo>
                      <a:lnTo>
                        <a:pt x="335" y="421"/>
                      </a:lnTo>
                      <a:lnTo>
                        <a:pt x="347" y="420"/>
                      </a:lnTo>
                      <a:lnTo>
                        <a:pt x="354" y="415"/>
                      </a:lnTo>
                      <a:lnTo>
                        <a:pt x="360" y="405"/>
                      </a:lnTo>
                      <a:lnTo>
                        <a:pt x="361" y="380"/>
                      </a:lnTo>
                      <a:lnTo>
                        <a:pt x="358" y="348"/>
                      </a:lnTo>
                      <a:lnTo>
                        <a:pt x="358" y="321"/>
                      </a:lnTo>
                      <a:lnTo>
                        <a:pt x="364" y="278"/>
                      </a:lnTo>
                      <a:lnTo>
                        <a:pt x="368" y="261"/>
                      </a:lnTo>
                      <a:lnTo>
                        <a:pt x="374" y="247"/>
                      </a:lnTo>
                      <a:lnTo>
                        <a:pt x="420" y="186"/>
                      </a:lnTo>
                      <a:lnTo>
                        <a:pt x="451" y="141"/>
                      </a:lnTo>
                      <a:lnTo>
                        <a:pt x="452" y="123"/>
                      </a:lnTo>
                      <a:lnTo>
                        <a:pt x="444" y="101"/>
                      </a:lnTo>
                      <a:lnTo>
                        <a:pt x="430" y="83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552120" y="4097880"/>
                <a:ext cx="60840" cy="10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7" y="8567"/>
                    </a:moveTo>
                    <a:arcTo wR="10800" hR="10800" stAng="-715867" swAng="69550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7" y="8567"/>
                    </a:moveTo>
                    <a:arcTo wR="10800" hR="10800" stAng="-715867" swAng="6955078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378400" y="4094280"/>
              <a:ext cx="461880" cy="345960"/>
              <a:chOff x="5378400" y="4094280"/>
              <a:chExt cx="461880" cy="3459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5378400" y="4094280"/>
                <a:ext cx="461880" cy="345960"/>
                <a:chOff x="5378400" y="4094280"/>
                <a:chExt cx="461880" cy="3459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378400" y="4168800"/>
                  <a:ext cx="71640" cy="193680"/>
                </a:xfrm>
                <a:custGeom>
                  <a:avLst/>
                  <a:gdLst/>
                  <a:ahLst/>
                  <a:rect l="l" t="t" r="r" b="b"/>
                  <a:pathLst>
                    <a:path w="90" h="245">
                      <a:moveTo>
                        <a:pt x="15" y="0"/>
                      </a:moveTo>
                      <a:lnTo>
                        <a:pt x="8" y="25"/>
                      </a:lnTo>
                      <a:lnTo>
                        <a:pt x="4" y="46"/>
                      </a:lnTo>
                      <a:lnTo>
                        <a:pt x="0" y="76"/>
                      </a:lnTo>
                      <a:lnTo>
                        <a:pt x="0" y="95"/>
                      </a:lnTo>
                      <a:lnTo>
                        <a:pt x="0" y="118"/>
                      </a:lnTo>
                      <a:lnTo>
                        <a:pt x="6" y="148"/>
                      </a:lnTo>
                      <a:lnTo>
                        <a:pt x="15" y="180"/>
                      </a:lnTo>
                      <a:lnTo>
                        <a:pt x="25" y="201"/>
                      </a:lnTo>
                      <a:lnTo>
                        <a:pt x="35" y="222"/>
                      </a:lnTo>
                      <a:lnTo>
                        <a:pt x="49" y="235"/>
                      </a:lnTo>
                      <a:lnTo>
                        <a:pt x="66" y="244"/>
                      </a:lnTo>
                      <a:lnTo>
                        <a:pt x="81" y="245"/>
                      </a:lnTo>
                      <a:lnTo>
                        <a:pt x="86" y="229"/>
                      </a:lnTo>
                      <a:lnTo>
                        <a:pt x="87" y="217"/>
                      </a:lnTo>
                      <a:lnTo>
                        <a:pt x="90" y="195"/>
                      </a:lnTo>
                      <a:lnTo>
                        <a:pt x="90" y="176"/>
                      </a:lnTo>
                      <a:lnTo>
                        <a:pt x="85" y="124"/>
                      </a:lnTo>
                      <a:lnTo>
                        <a:pt x="49" y="14"/>
                      </a:lnTo>
                      <a:lnTo>
                        <a:pt x="31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5378400" y="4094280"/>
                  <a:ext cx="461880" cy="345960"/>
                  <a:chOff x="5378400" y="4094280"/>
                  <a:chExt cx="461880" cy="345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5378400" y="4106880"/>
                    <a:ext cx="2206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84">
                        <a:moveTo>
                          <a:pt x="277" y="0"/>
                        </a:moveTo>
                        <a:lnTo>
                          <a:pt x="13" y="88"/>
                        </a:lnTo>
                        <a:lnTo>
                          <a:pt x="3" y="138"/>
                        </a:lnTo>
                        <a:lnTo>
                          <a:pt x="0" y="184"/>
                        </a:lnTo>
                        <a:lnTo>
                          <a:pt x="11" y="238"/>
                        </a:lnTo>
                        <a:lnTo>
                          <a:pt x="35" y="284"/>
                        </a:lnTo>
                        <a:lnTo>
                          <a:pt x="129" y="218"/>
                        </a:lnTo>
                        <a:lnTo>
                          <a:pt x="234" y="199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481720" y="4094280"/>
                    <a:ext cx="3585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435">
                        <a:moveTo>
                          <a:pt x="22" y="83"/>
                        </a:moveTo>
                        <a:lnTo>
                          <a:pt x="35" y="69"/>
                        </a:lnTo>
                        <a:lnTo>
                          <a:pt x="52" y="58"/>
                        </a:lnTo>
                        <a:lnTo>
                          <a:pt x="72" y="51"/>
                        </a:lnTo>
                        <a:lnTo>
                          <a:pt x="98" y="46"/>
                        </a:lnTo>
                        <a:lnTo>
                          <a:pt x="110" y="38"/>
                        </a:lnTo>
                        <a:lnTo>
                          <a:pt x="128" y="26"/>
                        </a:lnTo>
                        <a:lnTo>
                          <a:pt x="153" y="10"/>
                        </a:lnTo>
                        <a:lnTo>
                          <a:pt x="179" y="1"/>
                        </a:lnTo>
                        <a:lnTo>
                          <a:pt x="193" y="0"/>
                        </a:lnTo>
                        <a:lnTo>
                          <a:pt x="207" y="3"/>
                        </a:lnTo>
                        <a:lnTo>
                          <a:pt x="227" y="10"/>
                        </a:lnTo>
                        <a:lnTo>
                          <a:pt x="244" y="18"/>
                        </a:lnTo>
                        <a:lnTo>
                          <a:pt x="260" y="23"/>
                        </a:lnTo>
                        <a:lnTo>
                          <a:pt x="282" y="27"/>
                        </a:lnTo>
                        <a:lnTo>
                          <a:pt x="317" y="27"/>
                        </a:lnTo>
                        <a:lnTo>
                          <a:pt x="340" y="26"/>
                        </a:lnTo>
                        <a:lnTo>
                          <a:pt x="365" y="20"/>
                        </a:lnTo>
                        <a:lnTo>
                          <a:pt x="389" y="15"/>
                        </a:lnTo>
                        <a:lnTo>
                          <a:pt x="403" y="15"/>
                        </a:lnTo>
                        <a:lnTo>
                          <a:pt x="420" y="19"/>
                        </a:lnTo>
                        <a:lnTo>
                          <a:pt x="436" y="27"/>
                        </a:lnTo>
                        <a:lnTo>
                          <a:pt x="440" y="35"/>
                        </a:lnTo>
                        <a:lnTo>
                          <a:pt x="440" y="43"/>
                        </a:lnTo>
                        <a:lnTo>
                          <a:pt x="438" y="56"/>
                        </a:lnTo>
                        <a:lnTo>
                          <a:pt x="428" y="64"/>
                        </a:lnTo>
                        <a:lnTo>
                          <a:pt x="387" y="67"/>
                        </a:lnTo>
                        <a:lnTo>
                          <a:pt x="355" y="78"/>
                        </a:lnTo>
                        <a:lnTo>
                          <a:pt x="301" y="88"/>
                        </a:lnTo>
                        <a:lnTo>
                          <a:pt x="292" y="92"/>
                        </a:lnTo>
                        <a:lnTo>
                          <a:pt x="283" y="106"/>
                        </a:lnTo>
                        <a:lnTo>
                          <a:pt x="283" y="119"/>
                        </a:lnTo>
                        <a:lnTo>
                          <a:pt x="297" y="157"/>
                        </a:lnTo>
                        <a:lnTo>
                          <a:pt x="317" y="189"/>
                        </a:lnTo>
                        <a:lnTo>
                          <a:pt x="343" y="219"/>
                        </a:lnTo>
                        <a:lnTo>
                          <a:pt x="383" y="251"/>
                        </a:lnTo>
                        <a:lnTo>
                          <a:pt x="412" y="274"/>
                        </a:lnTo>
                        <a:lnTo>
                          <a:pt x="424" y="280"/>
                        </a:lnTo>
                        <a:lnTo>
                          <a:pt x="436" y="288"/>
                        </a:lnTo>
                        <a:lnTo>
                          <a:pt x="446" y="297"/>
                        </a:lnTo>
                        <a:lnTo>
                          <a:pt x="453" y="307"/>
                        </a:lnTo>
                        <a:lnTo>
                          <a:pt x="453" y="317"/>
                        </a:lnTo>
                        <a:lnTo>
                          <a:pt x="449" y="328"/>
                        </a:lnTo>
                        <a:lnTo>
                          <a:pt x="442" y="333"/>
                        </a:lnTo>
                        <a:lnTo>
                          <a:pt x="429" y="337"/>
                        </a:lnTo>
                        <a:lnTo>
                          <a:pt x="413" y="335"/>
                        </a:lnTo>
                        <a:lnTo>
                          <a:pt x="399" y="328"/>
                        </a:lnTo>
                        <a:lnTo>
                          <a:pt x="372" y="307"/>
                        </a:lnTo>
                        <a:lnTo>
                          <a:pt x="322" y="278"/>
                        </a:lnTo>
                        <a:lnTo>
                          <a:pt x="283" y="242"/>
                        </a:lnTo>
                        <a:lnTo>
                          <a:pt x="278" y="237"/>
                        </a:lnTo>
                        <a:lnTo>
                          <a:pt x="271" y="238"/>
                        </a:lnTo>
                        <a:lnTo>
                          <a:pt x="274" y="248"/>
                        </a:lnTo>
                        <a:lnTo>
                          <a:pt x="313" y="287"/>
                        </a:lnTo>
                        <a:lnTo>
                          <a:pt x="326" y="299"/>
                        </a:lnTo>
                        <a:lnTo>
                          <a:pt x="340" y="315"/>
                        </a:lnTo>
                        <a:lnTo>
                          <a:pt x="370" y="335"/>
                        </a:lnTo>
                        <a:lnTo>
                          <a:pt x="386" y="349"/>
                        </a:lnTo>
                        <a:lnTo>
                          <a:pt x="391" y="361"/>
                        </a:lnTo>
                        <a:lnTo>
                          <a:pt x="390" y="374"/>
                        </a:lnTo>
                        <a:lnTo>
                          <a:pt x="383" y="383"/>
                        </a:lnTo>
                        <a:lnTo>
                          <a:pt x="374" y="389"/>
                        </a:lnTo>
                        <a:lnTo>
                          <a:pt x="360" y="392"/>
                        </a:lnTo>
                        <a:lnTo>
                          <a:pt x="344" y="389"/>
                        </a:lnTo>
                        <a:lnTo>
                          <a:pt x="333" y="383"/>
                        </a:lnTo>
                        <a:lnTo>
                          <a:pt x="296" y="352"/>
                        </a:lnTo>
                        <a:lnTo>
                          <a:pt x="273" y="326"/>
                        </a:lnTo>
                        <a:lnTo>
                          <a:pt x="213" y="260"/>
                        </a:lnTo>
                        <a:lnTo>
                          <a:pt x="233" y="288"/>
                        </a:lnTo>
                        <a:lnTo>
                          <a:pt x="243" y="311"/>
                        </a:lnTo>
                        <a:lnTo>
                          <a:pt x="248" y="322"/>
                        </a:lnTo>
                        <a:lnTo>
                          <a:pt x="258" y="344"/>
                        </a:lnTo>
                        <a:lnTo>
                          <a:pt x="284" y="379"/>
                        </a:lnTo>
                        <a:lnTo>
                          <a:pt x="293" y="390"/>
                        </a:lnTo>
                        <a:lnTo>
                          <a:pt x="299" y="402"/>
                        </a:lnTo>
                        <a:lnTo>
                          <a:pt x="300" y="412"/>
                        </a:lnTo>
                        <a:lnTo>
                          <a:pt x="297" y="421"/>
                        </a:lnTo>
                        <a:lnTo>
                          <a:pt x="290" y="430"/>
                        </a:lnTo>
                        <a:lnTo>
                          <a:pt x="279" y="435"/>
                        </a:lnTo>
                        <a:lnTo>
                          <a:pt x="263" y="434"/>
                        </a:lnTo>
                        <a:lnTo>
                          <a:pt x="252" y="430"/>
                        </a:lnTo>
                        <a:lnTo>
                          <a:pt x="203" y="363"/>
                        </a:lnTo>
                        <a:lnTo>
                          <a:pt x="176" y="310"/>
                        </a:lnTo>
                        <a:lnTo>
                          <a:pt x="154" y="267"/>
                        </a:lnTo>
                        <a:lnTo>
                          <a:pt x="150" y="261"/>
                        </a:lnTo>
                        <a:lnTo>
                          <a:pt x="142" y="261"/>
                        </a:lnTo>
                        <a:lnTo>
                          <a:pt x="140" y="266"/>
                        </a:lnTo>
                        <a:lnTo>
                          <a:pt x="143" y="297"/>
                        </a:lnTo>
                        <a:lnTo>
                          <a:pt x="146" y="321"/>
                        </a:lnTo>
                        <a:lnTo>
                          <a:pt x="145" y="353"/>
                        </a:lnTo>
                        <a:lnTo>
                          <a:pt x="145" y="395"/>
                        </a:lnTo>
                        <a:lnTo>
                          <a:pt x="143" y="403"/>
                        </a:lnTo>
                        <a:lnTo>
                          <a:pt x="138" y="411"/>
                        </a:lnTo>
                        <a:lnTo>
                          <a:pt x="129" y="418"/>
                        </a:lnTo>
                        <a:lnTo>
                          <a:pt x="117" y="421"/>
                        </a:lnTo>
                        <a:lnTo>
                          <a:pt x="106" y="420"/>
                        </a:lnTo>
                        <a:lnTo>
                          <a:pt x="98" y="415"/>
                        </a:lnTo>
                        <a:lnTo>
                          <a:pt x="93" y="404"/>
                        </a:lnTo>
                        <a:lnTo>
                          <a:pt x="91" y="380"/>
                        </a:lnTo>
                        <a:lnTo>
                          <a:pt x="94" y="348"/>
                        </a:lnTo>
                        <a:lnTo>
                          <a:pt x="94" y="321"/>
                        </a:lnTo>
                        <a:lnTo>
                          <a:pt x="89" y="278"/>
                        </a:lnTo>
                        <a:lnTo>
                          <a:pt x="85" y="261"/>
                        </a:lnTo>
                        <a:lnTo>
                          <a:pt x="78" y="247"/>
                        </a:lnTo>
                        <a:lnTo>
                          <a:pt x="33" y="186"/>
                        </a:lnTo>
                        <a:lnTo>
                          <a:pt x="1" y="141"/>
                        </a:lnTo>
                        <a:lnTo>
                          <a:pt x="0" y="123"/>
                        </a:lnTo>
                        <a:lnTo>
                          <a:pt x="8" y="101"/>
                        </a:lnTo>
                        <a:lnTo>
                          <a:pt x="22" y="83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5586480" y="4097880"/>
                <a:ext cx="60120" cy="1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4" y="21381"/>
                    </a:moveTo>
                    <a:arcTo wR="10800" hR="10800" stAng="4706505" swAng="67574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4" y="21381"/>
                    </a:moveTo>
                    <a:arcTo wR="10800" hR="10800" stAng="4706505" swAng="6757496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4141800" y="2900520"/>
            <a:ext cx="909720" cy="679320"/>
            <a:chOff x="4141800" y="2900520"/>
            <a:chExt cx="909720" cy="679320"/>
          </a:xfrm>
        </p:grpSpPr>
        <p:sp>
          <p:nvSpPr>
            <p:cNvPr id="199" name=""/>
            <p:cNvSpPr/>
            <p:nvPr/>
          </p:nvSpPr>
          <p:spPr>
            <a:xfrm>
              <a:off x="4141800" y="3335400"/>
              <a:ext cx="9828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959360" y="3382560"/>
              <a:ext cx="92160" cy="19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7840" y="2967120"/>
              <a:ext cx="52560" cy="6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835160" y="2987640"/>
              <a:ext cx="4428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03680" y="2900520"/>
              <a:ext cx="1800" cy="8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3151080"/>
              <a:ext cx="73080" cy="23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970520" y="3174840"/>
              <a:ext cx="71280" cy="12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200120" y="3559320"/>
              <a:ext cx="66600" cy="2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0000" y="3556080"/>
              <a:ext cx="8244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Welcome to the Application Map Fil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32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pplicationConstant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ghtApp="C:\Program Files\Mercury Interactive\WinRunner\samples\vb\app\fltvb41a.ex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ogi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n={class: "window", label: "Login", MSW_class: "ThunderRT6FormDC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={class: "push_button", vb_name: "cmdHelp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l={class: "push_button", vb_name: "cmdCancel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={class: "push_button", vb_name: "cmdOK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Name={class: "edit", vb_name: "txtAgentsName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word={class: "edit", vb_name: "txtPassword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InvalidPasswor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lidPassword={class: "window", label: "Flight Reservation Message", MSW_class: "#32770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={class: "push_button", label: "OK"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caveman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2049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ing an Application Ma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Tools|GUI Map Editor in Win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the Application to be t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Learn in the Map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the Window of th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 Yes to the prom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e to the next screen to le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Step 3 until all application has been lear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ve the GUI Map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and run ProcessMapFile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Application Map file is saved at the same place as your GUI Map File with a similar 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magic" descr=""/>
          <p:cNvPicPr/>
          <p:nvPr/>
        </p:nvPicPr>
        <p:blipFill>
          <a:blip r:embed="rId1"/>
          <a:stretch/>
        </p:blipFill>
        <p:spPr>
          <a:xfrm>
            <a:off x="4952880" y="2908440"/>
            <a:ext cx="3733920" cy="1801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little about 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money" descr=""/>
          <p:cNvPicPr/>
          <p:nvPr/>
        </p:nvPicPr>
        <p:blipFill>
          <a:blip r:embed="rId1"/>
          <a:stretch/>
        </p:blipFill>
        <p:spPr>
          <a:xfrm>
            <a:off x="4952880" y="2125800"/>
            <a:ext cx="3733920" cy="3367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nformation about testing i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Winru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to write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ome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Problems and discove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to use 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n the Map File or the Tes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test table variables are preceded by a ^ (carot 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igning a value, simple type ^var=“value” or ^var1=^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a variable just type in ^variable in the place you want to us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Rhino" descr=""/>
          <p:cNvPicPr/>
          <p:nvPr/>
        </p:nvPicPr>
        <p:blipFill>
          <a:blip r:embed="rId1"/>
          <a:stretch/>
        </p:blipFill>
        <p:spPr>
          <a:xfrm>
            <a:off x="5535720" y="1752480"/>
            <a:ext cx="2566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do all these commands come fro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rs that have something to add write generic code for th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is updated and the commands are tested for all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is located at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safsdev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sourceforge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.net/sqabasic2000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RRAFSReference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e01460_" descr="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29714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aunch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smile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1987560" cy="3047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.C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Launch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e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App.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bd04897_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733920" cy="2782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e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s.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bd05299_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3733560" cy="3452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; SetApplicationMap; “c:\Datapool\FlightReservation.gu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;LaunchApplication;TestApp;^Flight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App.S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bd06517_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733560" cy="2462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; SetApplicationMap; “C:\Datapool\FlightReservation.gu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Login; AgentsName; SetTextValue; “jdo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Password; SetUnverifiedTextValue; “mercu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OK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.S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e01753_" descr=""/>
          <p:cNvPicPr/>
          <p:nvPr/>
        </p:nvPicPr>
        <p:blipFill>
          <a:blip r:embed="rId1"/>
          <a:stretch/>
        </p:blipFill>
        <p:spPr>
          <a:xfrm>
            <a:off x="5334120" y="3649680"/>
            <a:ext cx="3090600" cy="2751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rt Scripting!!!</a:t>
            </a:r>
            <a:br>
              <a:rPr sz="4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Keep It Simple Silly (KISS)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NewFlight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partures; SelectTextItem; "Los Angeles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stinations; SelectTextItem; "Portlan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Flight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Table; OK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CustomerName; SetTextValue; "Sue Smit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FirstClas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TicketsOrdered; SetTextValue; "2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InsertOrder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1676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Flight.S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d05545_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752480" cy="1722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did we just do??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9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ed the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ied the application star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the Text Value of Agent na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ied we set the Text Value of Agent Na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ied the value we set to Agent name is what we sent to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the Text Value of Passwo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ied that we set the text value of passwo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ed the Ok butt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ied we clicked the OK butt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erson" descr=""/>
          <p:cNvPicPr/>
          <p:nvPr/>
        </p:nvPicPr>
        <p:blipFill>
          <a:blip r:embed="rId1"/>
          <a:stretch/>
        </p:blipFill>
        <p:spPr>
          <a:xfrm>
            <a:off x="5675400" y="1752480"/>
            <a:ext cx="228924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Next??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reusable so we can use the same script over and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the information 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 names or variables so they can chang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e02002_" descr=""/>
          <p:cNvPicPr/>
          <p:nvPr/>
        </p:nvPicPr>
        <p:blipFill>
          <a:blip r:embed="rId1"/>
          <a:stretch/>
        </p:blipFill>
        <p:spPr>
          <a:xfrm>
            <a:off x="4952880" y="1940040"/>
            <a:ext cx="3733920" cy="3738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word Driven Te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Word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Drive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Drive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the same thing, a specific set of actions happen for a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e01832_" descr=""/>
          <p:cNvPicPr/>
          <p:nvPr/>
        </p:nvPicPr>
        <p:blipFill>
          <a:blip r:embed="rId1"/>
          <a:stretch/>
        </p:blipFill>
        <p:spPr>
          <a:xfrm>
            <a:off x="4951440" y="2068560"/>
            <a:ext cx="3735360" cy="3481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do I do tha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aunch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^UserName=“jdoe”; Password=“mercu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Exit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^UserName=“ssmith”; Password=“InvalidPasswor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VerifyInvalid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^UserName=“bjones”; Password = “Mercu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952880"/>
            <a:ext cx="7467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; SetApplicationMap; “C:\Datapool\FlightReservation.gu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Login; AgentsName; SetTextValue; ^Us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Password; SetUnverifiedTextValue; ^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ogin; OK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1676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Application.S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4267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n.S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itApp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; SetApplicationMap; “C:\Datapool\FlightReservation.gu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, FlightReservation, FlightReservation, SELECTMENUITEM, “File;Exi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bd07153_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733920" cy="3933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erifyInvalidPassword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; SetApplicationMap; “C:\Datapool\FlightReservation.gu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InvalidPassword; InvalidPassword; VerifyProperty; Visible;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InvalidPassword; OK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RUNNER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167328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is different about this on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all of the things the first script did, but this time we do a lot mo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test tables for Exit and invali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you can login with a vali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you can exi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an invalid user can gain access to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login test table that works for most any application that has a login. Just make sure the name is the same, in the application map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fortune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1749600" cy="1760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t’s Do some more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C:\Program Files\Mercury Interactive\WinRunner\samples\vb\app\fltvb41b.exe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C:\Program Files\Mercury Interactive\WinRunner\samples\vb\ap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bd05297_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057400" cy="1968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Your Turn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safsdev.sourceforge.net/sqabasic2000/RRAFSReferenc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AMCONFUS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1676520" cy="4038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light.CDD Revist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9714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Launch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Housemov" descr=""/>
          <p:cNvPicPr/>
          <p:nvPr/>
        </p:nvPicPr>
        <p:blipFill>
          <a:blip r:embed="rId1"/>
          <a:stretch/>
        </p:blipFill>
        <p:spPr>
          <a:xfrm>
            <a:off x="4952880" y="2014560"/>
            <a:ext cx="3733920" cy="3589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unchApp.ST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; Launch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; login; ^user.name="jcrunk“; ^user.password="mercur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FISTSLAM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3733560" cy="3094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Flight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.ST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; SetVariableValues; ^Class="FirstClass“; ^NbrTickets="2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AddFlight; ^Departure="Los Angeles“; ^Destinations="Portland“; ^Customer="Sue Smit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; SetVariableValues; ^Class="BusinessClass“; ^NbrTickets="3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AddFlight; ^Departure="Denver“; ^Destinations="Los Angeles“; ^Customer="John Do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; SetVariableValues; ^Class="EconomyClass“; ^NbrTickets="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AddFlight; ^Departure="Portland“; ^Destinations="Seattle“; ^Customer="Bob Jone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Sue Smit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UpdateFlight; ^NbrTickets="1“; ^Class="BusinessClas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John Do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UpdateFlight; ^NbrTickets="2“; ^Class="EconomyClas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Bob Jone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UpdateFlight; ^NbrTickets="3“; ^Class="FirstClas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Sue Smit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Delete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John Do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Delete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FindFlight; ^Customer="Bob Jone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; Delete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CLAP" descr=""/>
          <p:cNvPicPr/>
          <p:nvPr/>
        </p:nvPicPr>
        <p:blipFill>
          <a:blip r:embed="rId1"/>
          <a:stretch/>
        </p:blipFill>
        <p:spPr>
          <a:xfrm>
            <a:off x="5638680" y="4176720"/>
            <a:ext cx="3124440" cy="2271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d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FlightReservation; SelectMenuItem; “File; New Ord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partures; SelectTextItem; “Denv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stinations; SelectTextItem; “Portlan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Flight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Table; AvailiableFlights; SetSelectedRow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Table; OK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CustomerName; SetTextValue; ^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^Clas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InsertOrder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bd05015_" descr=""/>
          <p:cNvPicPr/>
          <p:nvPr/>
        </p:nvPicPr>
        <p:blipFill>
          <a:blip r:embed="rId1"/>
          <a:stretch/>
        </p:blipFill>
        <p:spPr>
          <a:xfrm>
            <a:off x="6324480" y="3886200"/>
            <a:ext cx="2283120" cy="2513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use Keyword Te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abili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omponents handled by standard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tails of the scripts are hidden from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don’t have to learn the script language to write scri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mm" descr=""/>
          <p:cNvPicPr/>
          <p:nvPr/>
        </p:nvPicPr>
        <p:blipFill>
          <a:blip r:embed="rId1"/>
          <a:stretch/>
        </p:blipFill>
        <p:spPr>
          <a:xfrm>
            <a:off x="6059520" y="1752480"/>
            <a:ext cx="152064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unch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; LaunchApplication; Flight; ^FlightApp; ^Flight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bs00554_" descr=""/>
          <p:cNvPicPr/>
          <p:nvPr/>
        </p:nvPicPr>
        <p:blipFill>
          <a:blip r:embed="rId1"/>
          <a:stretch/>
        </p:blipFill>
        <p:spPr>
          <a:xfrm>
            <a:off x="4495680" y="3071880"/>
            <a:ext cx="3200400" cy="2792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gin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AgentsName; SetTextValue; ^user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Password; SetUnverifiedTextValue; ^user.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; Login; OK; 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Ouch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701028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d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NewFlight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partures; SelectTextItem; ^Depa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Destinations; SelectTextItem; ^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Flight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sTable; OK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CustomerName; SetTextValue; ^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^Class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TicketsOrdered; SetTextValue; ^NbrTi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; FlightReservation; InsertOrder;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e02097_" descr=""/>
          <p:cNvPicPr/>
          <p:nvPr/>
        </p:nvPicPr>
        <p:blipFill>
          <a:blip r:embed="rId1"/>
          <a:stretch/>
        </p:blipFill>
        <p:spPr>
          <a:xfrm>
            <a:off x="5486400" y="3978360"/>
            <a:ext cx="3200400" cy="2563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nd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lightReservation; FlightReservation; SelectMenuItem; "File;Open Order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indOrder; ByCustName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indOrder; CustomerName; SetTextValue; ^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indOrder; OK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bs02064_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200400" cy="3187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pdate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lightReservation; ^Class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lightReservation; TicketsOrdered; SetTextValue; ^NbrTi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lightReservation; UpdateOrder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TRIUMPH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33680" cy="3886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leteFlight.SD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FlightReservation; DeleteOrder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; ConfirmationMessage; Yes;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e01832_" descr=""/>
          <p:cNvPicPr/>
          <p:nvPr/>
        </p:nvPicPr>
        <p:blipFill>
          <a:blip r:embed="rId1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re to go from her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experimenting with othe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ome of the documentation on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safsdev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Confidence…You can Do it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examine" descr=""/>
          <p:cNvPicPr/>
          <p:nvPr/>
        </p:nvPicPr>
        <p:blipFill>
          <a:blip r:embed="rId2"/>
          <a:stretch/>
        </p:blipFill>
        <p:spPr>
          <a:xfrm>
            <a:off x="4952880" y="1803240"/>
            <a:ext cx="3733920" cy="4013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gle, C. Test automation frameworks;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t, E. &amp; Prince, S. "A Roadmap for Automating Software Testing" Tutorial presented at STAR’99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ference, Orlando, Florida, May 10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yes, L. "Establishing an Automated Testing Framework" Tutorial presented at STAR’99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ference, Orlando, Florida, May 11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t, E. "The Third Generation--Integrated Test Design and Automation" Guest presentation at STAR’99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ference, Orlando, Florida, May 12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sley, D. &amp; Posey, B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ust Enough Software Test Automa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Jersey: Prentice Hall PTR, 200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ust, G. "A Model for Successful Software Testing Automation" Paper presented at STAR’99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ference, Orlando, Florida, May 12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stin, E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utomated Software Testing: Introduction, Management, and Performa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York: Addison Wesley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wster &amp; Graha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ftware Test Automation: Effective use of test execution tool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York: Addison Wesley, 199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stin, E. "Automated Testing Lifecycle Methodology (ATLM)" Paper presented at STAR EAST 2000 Conference, Orlando, Florida, May 3, 2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t, E. &amp; Buwalda, H. "Testing and Test Automation: Establishing Effective Architectures" Presentation at STAR EAST 2000 Conference, Orlando, Florida, May 4, 2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eeney, M. "Automation Testing Using Visual Basic" Paper presented at STAR EAST 2000 Conference, Orlando, Florida, May 4, 2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walda, H. "Soap Opera Testing" Guest presentation at STAR EAST 2000 Conference, Orlando, Florida, May 5, 2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lner, A. "Advanced Techniques in Test Automation" Paper presented at STAR EAST 2000 Conference, Orlando, Florida, May 5, 2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m Kaner, 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aner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.c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ambelich, K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tally Data-Driven Automated Tes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998 </a:t>
            </a:r>
            <a:br>
              <a:rPr sz="1400"/>
            </a:b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www.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sqa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-test.com/w_paper1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A Suite Users, Discussions and Archives, 1999-2000, 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http://www.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dundee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9"/>
              </a:rPr>
              <a:t>.net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10"/>
              </a:rPr>
              <a:t>sqa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gle, C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 Driven Test Automation: For Rational Robot V200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-2000</a:t>
            </a:r>
            <a:br>
              <a:rPr sz="1400"/>
            </a:b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12"/>
              </a:rPr>
              <a:t>DDE Doc Inde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usabil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components are handled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creens are handled with the same test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ables can be used in many different applications instead of creating one for each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d04924_" descr=""/>
          <p:cNvPicPr/>
          <p:nvPr/>
        </p:nvPicPr>
        <p:blipFill>
          <a:blip r:embed="rId1"/>
          <a:stretch/>
        </p:blipFill>
        <p:spPr>
          <a:xfrm>
            <a:off x="5294160" y="1752480"/>
            <a:ext cx="30513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can I test with a Framework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a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ba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ba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/C++/C#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 (with enhancemen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 (with enhancemen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phi (with enhanc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OOR" descr=""/>
          <p:cNvPicPr/>
          <p:nvPr/>
        </p:nvPicPr>
        <p:blipFill>
          <a:blip r:embed="rId1"/>
          <a:stretch/>
        </p:blipFill>
        <p:spPr>
          <a:xfrm>
            <a:off x="5421240" y="1752480"/>
            <a:ext cx="27957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oking… Beyond “The Project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467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your automated test effort really uniq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really think your problems are no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really want to do this all over a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429000"/>
            <a:ext cx="7391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21304"/>
                </a:solidFill>
                <a:latin typeface="Arial"/>
              </a:rPr>
              <a:t>Generally, a finite set of common components make up our infinite set of unique applic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1304"/>
                </a:solidFill>
                <a:latin typeface="Arial"/>
              </a:rPr>
              <a:t>We are all trying to solve the same proble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1304"/>
                </a:solidFill>
                <a:latin typeface="Arial"/>
              </a:rPr>
              <a:t>Carl Nagle 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 don’t have time to learn something new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to much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lines are fast appr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add to my already cramped workl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n’t you telling me I am going to have to do m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HUMBDN" descr=""/>
          <p:cNvPicPr/>
          <p:nvPr/>
        </p:nvPicPr>
        <p:blipFill>
          <a:blip r:embed="rId1"/>
          <a:stretch/>
        </p:blipFill>
        <p:spPr>
          <a:xfrm>
            <a:off x="4952880" y="2556000"/>
            <a:ext cx="3733920" cy="2506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vantages of a Fra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framework will actually give you mor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test among projects that don’t seem to have anything to do with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dane task no longer need be man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s don’t forget to do something once they are told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ing task are autom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look like a hero for finishing on tim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j0197662" descr=""/>
          <p:cNvPicPr/>
          <p:nvPr/>
        </p:nvPicPr>
        <p:blipFill>
          <a:blip r:embed="rId1"/>
          <a:stretch/>
        </p:blipFill>
        <p:spPr>
          <a:xfrm>
            <a:off x="4952880" y="1928880"/>
            <a:ext cx="3733920" cy="3760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20:20:44Z</dcterms:created>
  <dc:creator>adpuser</dc:creator>
  <dc:description/>
  <dc:language>en-US</dc:language>
  <cp:lastModifiedBy>TRAIN2</cp:lastModifiedBy>
  <dcterms:modified xsi:type="dcterms:W3CDTF">2004-08-04T17:59:25Z</dcterms:modified>
  <cp:revision>32</cp:revision>
  <dc:subject/>
  <dc:title>Keyword Driven Testing Using WRSAFS</dc:title>
</cp:coreProperties>
</file>